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40.jpeg" ContentType="image/jpeg"/>
  <Override PartName="/ppt/media/image54.wmf" ContentType="image/x-wmf"/>
  <Override PartName="/ppt/media/image45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7.wmf" ContentType="image/x-wmf"/>
  <Override PartName="/ppt/media/image44.wmf" ContentType="image/x-wmf"/>
  <Override PartName="/ppt/media/image49.jpeg" ContentType="image/jpeg"/>
  <Override PartName="/ppt/media/image56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43.wmf" ContentType="image/x-wmf"/>
  <Override PartName="/ppt/media/image55.wmf" ContentType="image/x-wmf"/>
  <Override PartName="/ppt/media/image35.jpeg" ContentType="image/jpeg"/>
  <Override PartName="/ppt/media/image33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D17-51AB-4962-B04F-A22EEDC8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427-E63A-4DD1-AB0F-4BEDEDC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F4E-4D31-44F4-941B-E7BB87F5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299-DE74-4BCB-89F3-DC43FF79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C84-D953-4C15-ACD0-3437F99A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B25-78C1-4A6C-81BD-14EBDDA7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952-9CBF-4704-9FD7-101C5640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115-FE1B-4AA4-BE00-F6ED7E4E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E7D-068F-4E07-A36D-3D65979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BB7-7626-4E4D-85E8-692730B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1FE-A1B3-4D95-B6B1-CC2D76D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678-D4AB-4041-AC70-2F95ABAB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27A5-BBEE-47D3-AD73-2D00562B4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7040" y="1130400"/>
          <a:ext cx="22352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130400"/>
                    <a:ext cx="2235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520" y="2133720"/>
          <a:ext cx="2349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2349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3520" y="3124080"/>
          <a:ext cx="266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124080"/>
                    <a:ext cx="266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191120"/>
          <a:ext cx="49021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191120"/>
                    <a:ext cx="490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3520" y="5334120"/>
          <a:ext cx="759600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334120"/>
                    <a:ext cx="7596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143000"/>
          <a:ext cx="746892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4689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520" y="2743200"/>
          <a:ext cx="486396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48639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4648320"/>
          <a:ext cx="565128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648320"/>
                    <a:ext cx="5651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1665360"/>
          <a:ext cx="2276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65360"/>
                    <a:ext cx="2276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09680" y="5124600"/>
          <a:ext cx="20448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24600"/>
                    <a:ext cx="20448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380880"/>
          <a:ext cx="48006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88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9480" y="2971800"/>
          <a:ext cx="46990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971800"/>
                    <a:ext cx="4699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58920" y="405144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40514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990720"/>
            <a:ext cx="66294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quee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1579680"/>
          <a:ext cx="571500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57150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228600"/>
          <a:ext cx="380988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38098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120" y="2362320"/>
          <a:ext cx="754524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545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41148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473040"/>
            <a:ext cx="74674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5181480"/>
          <a:ext cx="2438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2438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5867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d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46160" y="4863960"/>
          <a:ext cx="5046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6160" y="4863960"/>
                    <a:ext cx="5046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05120" y="228600"/>
            <a:ext cx="4897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52680" y="5105520"/>
          <a:ext cx="236232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105520"/>
                    <a:ext cx="23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380880"/>
            <a:ext cx="58834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24080" y="581040"/>
                <a:ext cx="35827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5200" y="2081160"/>
                <a:ext cx="4132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51080" y="3416400"/>
                <a:ext cx="2744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46040" y="4997520"/>
                <a:ext cx="226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5640" y="812880"/>
                <a:ext cx="2260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838080" y="1905120"/>
          <a:ext cx="2149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149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743200"/>
          <a:ext cx="2438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2438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914400"/>
            <a:ext cx="3303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1523880"/>
                <a:ext cx="775656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6294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440" y="304920"/>
            <a:ext cx="35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Uninte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62720"/>
            <a:ext cx="241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c)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203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1447920"/>
            <a:ext cx="2185200" cy="696960"/>
            <a:chOff x="1676520" y="1447920"/>
            <a:chExt cx="2185200" cy="696960"/>
          </a:xfrm>
        </p:grpSpPr>
        <p:graphicFrame>
          <p:nvGraphicFramePr>
            <p:cNvPr id="134" name=""/>
            <p:cNvGraphicFramePr/>
            <p:nvPr/>
          </p:nvGraphicFramePr>
          <p:xfrm>
            <a:off x="1676520" y="1600200"/>
            <a:ext cx="1269720" cy="5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00200"/>
                      <a:ext cx="12697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3021120" y="1447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76520" y="2362320"/>
          <a:ext cx="194292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19429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3886200" y="1143000"/>
            <a:ext cx="3533040" cy="1549440"/>
            <a:chOff x="3886200" y="1143000"/>
            <a:chExt cx="3533040" cy="1549440"/>
          </a:xfrm>
        </p:grpSpPr>
        <p:graphicFrame>
          <p:nvGraphicFramePr>
            <p:cNvPr id="140" name=""/>
            <p:cNvGraphicFramePr/>
            <p:nvPr/>
          </p:nvGraphicFramePr>
          <p:xfrm>
            <a:off x="3886200" y="1143000"/>
            <a:ext cx="393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143000"/>
                      <a:ext cx="393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571280" y="1676520"/>
              <a:ext cx="2847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at a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32440" y="3429000"/>
            <a:ext cx="43534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ntinu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4952880"/>
            <a:ext cx="8481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an Open Interval (a,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tinuous at eve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5880" y="457200"/>
            <a:ext cx="2512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-sided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0400" y="304920"/>
            <a:ext cx="5564880" cy="858600"/>
            <a:chOff x="3200400" y="304920"/>
            <a:chExt cx="5564880" cy="858600"/>
          </a:xfrm>
        </p:grpSpPr>
        <p:graphicFrame>
          <p:nvGraphicFramePr>
            <p:cNvPr id="147" name=""/>
            <p:cNvGraphicFramePr/>
            <p:nvPr/>
          </p:nvGraphicFramePr>
          <p:xfrm>
            <a:off x="3200400" y="533520"/>
            <a:ext cx="12700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335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847760" y="304920"/>
              <a:ext cx="39175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ft side limit: x approach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negative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920" y="1295280"/>
            <a:ext cx="5599080" cy="858600"/>
            <a:chOff x="3301920" y="1295280"/>
            <a:chExt cx="5599080" cy="858600"/>
          </a:xfrm>
        </p:grpSpPr>
        <p:graphicFrame>
          <p:nvGraphicFramePr>
            <p:cNvPr id="151" name=""/>
            <p:cNvGraphicFramePr/>
            <p:nvPr/>
          </p:nvGraphicFramePr>
          <p:xfrm>
            <a:off x="3301920" y="1447920"/>
            <a:ext cx="12700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01920" y="14479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873680" y="1295280"/>
              <a:ext cx="40273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ght side limit: x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positive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00" y="2936880"/>
            <a:ext cx="4872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Closed Interval [a,b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7800" y="3429000"/>
            <a:ext cx="2710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on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52680" y="4038480"/>
            <a:ext cx="2211120" cy="749160"/>
            <a:chOff x="3352680" y="4038480"/>
            <a:chExt cx="2211120" cy="749160"/>
          </a:xfrm>
        </p:grpSpPr>
        <p:graphicFrame>
          <p:nvGraphicFramePr>
            <p:cNvPr id="157" name=""/>
            <p:cNvGraphicFramePr/>
            <p:nvPr/>
          </p:nvGraphicFramePr>
          <p:xfrm>
            <a:off x="3352680" y="4190760"/>
            <a:ext cx="12700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9076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723200" y="403848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52680" y="4876920"/>
            <a:ext cx="2211120" cy="748800"/>
            <a:chOff x="3352680" y="4876920"/>
            <a:chExt cx="2211120" cy="748800"/>
          </a:xfrm>
        </p:grpSpPr>
        <p:graphicFrame>
          <p:nvGraphicFramePr>
            <p:cNvPr id="161" name=""/>
            <p:cNvGraphicFramePr/>
            <p:nvPr/>
          </p:nvGraphicFramePr>
          <p:xfrm>
            <a:off x="3352680" y="5029200"/>
            <a:ext cx="1270080" cy="59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029200"/>
                      <a:ext cx="12700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4723200" y="4876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458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3371760" indent="-337176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 is a real number and f(x) and g(x) are continuous at c, then the following functions are also continuous a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840" y="1828800"/>
            <a:ext cx="1340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b[f(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6480" y="2438280"/>
            <a:ext cx="115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560" y="2936880"/>
            <a:ext cx="106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f x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3600" y="3429000"/>
            <a:ext cx="2957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f(x)/g(x) if g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061160" y="4038480"/>
            <a:ext cx="16945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te Function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g(x)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inite value which F(x) approaches from the left and right at x =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657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43200" y="3733920"/>
          <a:ext cx="26668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733920"/>
                    <a:ext cx="2666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11360" y="4800600"/>
          <a:ext cx="28731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1360" y="4800600"/>
                    <a:ext cx="2873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19720" y="4800600"/>
          <a:ext cx="236196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00600"/>
                    <a:ext cx="2361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5880" y="380880"/>
            <a:ext cx="5755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Where is f(x) = ln(1+cos x) continu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40" y="914400"/>
            <a:ext cx="80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ince  y = 1  and  y = cos x  are continuous. 1 + cos 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for all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760" y="1752480"/>
            <a:ext cx="8055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n x is continuous for all x &gt; 0.  Therefore th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when 1+ cos x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960" y="2666880"/>
            <a:ext cx="754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nce -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this will always be true excep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 x = -1: x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(2k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4240" y="533520"/>
            <a:ext cx="59673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Value 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920" y="1371600"/>
            <a:ext cx="83476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on the closed interval [a,b]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there is at least 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[a,b]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63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6320" y="457200"/>
            <a:ext cx="6929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inite Lim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ntradiction in terms; a misn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40" y="1143000"/>
            <a:ext cx="768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limit refers to a vertical asymptote where bo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increases without bound in the sam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24240" y="5638680"/>
            <a:ext cx="6031440" cy="675720"/>
            <a:chOff x="1524240" y="5638680"/>
            <a:chExt cx="6031440" cy="675720"/>
          </a:xfrm>
        </p:grpSpPr>
        <p:sp>
          <p:nvSpPr>
            <p:cNvPr id="182" name=""/>
            <p:cNvSpPr/>
            <p:nvPr/>
          </p:nvSpPr>
          <p:spPr>
            <a:xfrm>
              <a:off x="1524240" y="5638680"/>
              <a:ext cx="603144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e Limi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Lim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86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14400" y="1981080"/>
            <a:ext cx="7696080" cy="3375000"/>
            <a:chOff x="914400" y="1981080"/>
            <a:chExt cx="7696080" cy="33750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65760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03848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5480" y="380880"/>
            <a:ext cx="3885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nfinit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1828800"/>
            <a:ext cx="3124080" cy="620280"/>
            <a:chOff x="2286000" y="1828800"/>
            <a:chExt cx="3124080" cy="620280"/>
          </a:xfrm>
        </p:grpSpPr>
        <p:graphicFrame>
          <p:nvGraphicFramePr>
            <p:cNvPr id="189" name=""/>
            <p:cNvGraphicFramePr/>
            <p:nvPr/>
          </p:nvGraphicFramePr>
          <p:xfrm>
            <a:off x="2666880" y="1904760"/>
            <a:ext cx="27432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904760"/>
                      <a:ext cx="2743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286000" y="18288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5640" y="2590920"/>
            <a:ext cx="2946240" cy="544320"/>
            <a:chOff x="2285640" y="2590920"/>
            <a:chExt cx="2946240" cy="544320"/>
          </a:xfrm>
        </p:grpSpPr>
        <p:sp>
          <p:nvSpPr>
            <p:cNvPr id="193" name=""/>
            <p:cNvSpPr/>
            <p:nvPr/>
          </p:nvSpPr>
          <p:spPr>
            <a:xfrm>
              <a:off x="2285640" y="259092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2742840" y="2590920"/>
            <a:ext cx="2489040" cy="5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2840" y="2590920"/>
                      <a:ext cx="2489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273400" y="3200400"/>
            <a:ext cx="2298600" cy="787320"/>
            <a:chOff x="2273400" y="3200400"/>
            <a:chExt cx="2298600" cy="787320"/>
          </a:xfrm>
        </p:grpSpPr>
        <p:sp>
          <p:nvSpPr>
            <p:cNvPr id="197" name=""/>
            <p:cNvSpPr/>
            <p:nvPr/>
          </p:nvSpPr>
          <p:spPr>
            <a:xfrm>
              <a:off x="2273400" y="34290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2730600" y="3200400"/>
            <a:ext cx="18414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3200400"/>
                      <a:ext cx="18414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1976040" y="4267080"/>
            <a:ext cx="4443840" cy="544680"/>
            <a:chOff x="1976040" y="4267080"/>
            <a:chExt cx="4443840" cy="544680"/>
          </a:xfrm>
        </p:grpSpPr>
        <p:sp>
          <p:nvSpPr>
            <p:cNvPr id="201" name=""/>
            <p:cNvSpPr/>
            <p:nvPr/>
          </p:nvSpPr>
          <p:spPr>
            <a:xfrm>
              <a:off x="1976040" y="4267080"/>
              <a:ext cx="244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 limits 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14760" y="4267080"/>
            <a:ext cx="1905120" cy="54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4760" y="4267080"/>
                      <a:ext cx="19051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"/>
          <p:cNvGrpSpPr/>
          <p:nvPr/>
        </p:nvGrpSpPr>
        <p:grpSpPr>
          <a:xfrm>
            <a:off x="1066320" y="1066680"/>
            <a:ext cx="5486760" cy="620640"/>
            <a:chOff x="1066320" y="1066680"/>
            <a:chExt cx="5486760" cy="620640"/>
          </a:xfrm>
        </p:grpSpPr>
        <p:graphicFrame>
          <p:nvGraphicFramePr>
            <p:cNvPr id="205" name=""/>
            <p:cNvGraphicFramePr/>
            <p:nvPr/>
          </p:nvGraphicFramePr>
          <p:xfrm>
            <a:off x="1676160" y="1143000"/>
            <a:ext cx="1790640" cy="544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160" y="1143000"/>
                      <a:ext cx="17906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724280" y="1143000"/>
            <a:ext cx="182880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1143000"/>
                      <a:ext cx="18288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066320" y="1066680"/>
              <a:ext cx="348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0160" y="1066680"/>
              <a:ext cx="619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29528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Graph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Nume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naly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438280" y="380880"/>
          <a:ext cx="32767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3276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5146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981080"/>
          <a:ext cx="6096240" cy="70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096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4534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1600200"/>
            <a:ext cx="6933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Limits don’t exi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eft and right limits dif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Unbounded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Oscillation between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57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and right limits diff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6386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ounded behavi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6680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cillation between va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6:28:48Z</dcterms:created>
  <dc:creator>Brookstone School</dc:creator>
  <dc:description/>
  <dc:language>en-US</dc:language>
  <cp:lastModifiedBy>Owner</cp:lastModifiedBy>
  <dcterms:modified xsi:type="dcterms:W3CDTF">2008-09-19T15:45:38Z</dcterms:modified>
  <cp:revision>35</cp:revision>
  <dc:subject/>
  <dc:title>No Slide Title</dc:title>
</cp:coreProperties>
</file>