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jpeg" ContentType="image/jpeg"/>
  <Override PartName="/ppt/media/image5.wmf" ContentType="image/x-wmf"/>
  <Override PartName="/ppt/media/image40.jpeg" ContentType="image/jpeg"/>
  <Override PartName="/ppt/media/image54.wmf" ContentType="image/x-wmf"/>
  <Override PartName="/ppt/media/image45.wmf" ContentType="image/x-wmf"/>
  <Override PartName="/ppt/media/image11.wmf" ContentType="image/x-wmf"/>
  <Override PartName="/ppt/media/image46.wmf" ContentType="image/x-wmf"/>
  <Override PartName="/ppt/media/image48.jpeg" ContentType="image/jpeg"/>
  <Override PartName="/ppt/media/image7.wmf" ContentType="image/x-wmf"/>
  <Override PartName="/ppt/media/image44.wmf" ContentType="image/x-wmf"/>
  <Override PartName="/ppt/media/image49.jpeg" ContentType="image/jpeg"/>
  <Override PartName="/ppt/media/image56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43.wmf" ContentType="image/x-wmf"/>
  <Override PartName="/ppt/media/image55.wmf" ContentType="image/x-wmf"/>
  <Override PartName="/ppt/media/image35.jpeg" ContentType="image/jpeg"/>
  <Override PartName="/ppt/media/image33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50.jpeg" ContentType="image/jpeg"/>
  <Override PartName="/ppt/media/image8.wmf" ContentType="image/x-wmf"/>
  <Override PartName="/ppt/media/image38.wmf" ContentType="image/x-wmf"/>
  <Override PartName="/ppt/media/image12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AA0-B153-45CE-A514-C02B772D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1CD-A21F-4696-B3CF-CB9C4135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A43-703E-4F77-99FB-5FA0450C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8A3-304E-4120-BB72-8BC50BBD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D3D-31D9-4100-AB4C-FB95126B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9D5-0A24-49CA-A0D8-3D49F6D2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925-9EE5-4D9C-982D-4A727D2F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A78-05A2-4002-A99C-7EF6C681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83E-2FFE-4476-AACA-2D252D0E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AA4-6460-470A-902C-D86C9F9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F85-50DE-40AC-A743-E6925C27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403-318C-4DCD-8B87-F2053C64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2D85-37BA-4E19-817C-5790C09E4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7040" y="1130400"/>
          <a:ext cx="22352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130400"/>
                    <a:ext cx="22352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520" y="2133720"/>
          <a:ext cx="23493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133720"/>
                    <a:ext cx="2349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33520" y="3124080"/>
          <a:ext cx="2666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124080"/>
                    <a:ext cx="2666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520" y="4191120"/>
          <a:ext cx="49021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191120"/>
                    <a:ext cx="490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33520" y="5334120"/>
          <a:ext cx="759600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334120"/>
                    <a:ext cx="7596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Co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143000"/>
          <a:ext cx="746892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4689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33520" y="2743200"/>
          <a:ext cx="486396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3200"/>
                    <a:ext cx="48639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4648320"/>
          <a:ext cx="565128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648320"/>
                    <a:ext cx="56512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743200" y="1665360"/>
          <a:ext cx="2276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65360"/>
                    <a:ext cx="2276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209680" y="5124600"/>
          <a:ext cx="204480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124600"/>
                    <a:ext cx="204480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37160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380880"/>
          <a:ext cx="48006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80880"/>
                    <a:ext cx="48006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09480" y="2971800"/>
          <a:ext cx="469908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971800"/>
                    <a:ext cx="4699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58920" y="4051440"/>
          <a:ext cx="20574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58920" y="405144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990720"/>
            <a:ext cx="66294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queez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63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219320" y="1579680"/>
          <a:ext cx="5715000" cy="31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79680"/>
                    <a:ext cx="57150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057400" y="228600"/>
          <a:ext cx="380988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38098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62120" y="2362320"/>
          <a:ext cx="7545240" cy="80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7545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90920" y="3352680"/>
            <a:ext cx="41148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473040"/>
            <a:ext cx="74674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5181480"/>
          <a:ext cx="24386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181480"/>
                    <a:ext cx="2438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58676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91440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ind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mi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46160" y="4863960"/>
          <a:ext cx="5046840" cy="15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6160" y="4863960"/>
                    <a:ext cx="50468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905120" y="228600"/>
            <a:ext cx="4897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352680" y="5105520"/>
          <a:ext cx="236232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5105520"/>
                    <a:ext cx="23623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52480" y="380880"/>
            <a:ext cx="58834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24080" y="581040"/>
                <a:ext cx="358272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65200" y="2081160"/>
                <a:ext cx="4132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51080" y="3416400"/>
                <a:ext cx="2744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46040" y="4997520"/>
                <a:ext cx="226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55640" y="812880"/>
                <a:ext cx="2260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838080" y="1905120"/>
          <a:ext cx="21495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21495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743200"/>
          <a:ext cx="243828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43200"/>
                    <a:ext cx="24382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572000" y="914400"/>
            <a:ext cx="3303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1523880"/>
                <a:ext cx="775656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e>
                      <m:lim>
                        <m:r>
                          <m:t xml:space="preserve">θ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66294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440" y="304920"/>
            <a:ext cx="3550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Uninte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562720"/>
            <a:ext cx="241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c) is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638680"/>
            <a:ext cx="203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76520" y="1447920"/>
            <a:ext cx="2185200" cy="696960"/>
            <a:chOff x="1676520" y="1447920"/>
            <a:chExt cx="2185200" cy="696960"/>
          </a:xfrm>
        </p:grpSpPr>
        <p:graphicFrame>
          <p:nvGraphicFramePr>
            <p:cNvPr id="134" name=""/>
            <p:cNvGraphicFramePr/>
            <p:nvPr/>
          </p:nvGraphicFramePr>
          <p:xfrm>
            <a:off x="1676520" y="1600200"/>
            <a:ext cx="1269720" cy="5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600200"/>
                      <a:ext cx="12697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3021120" y="1447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1676520" y="2362320"/>
          <a:ext cx="194292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362320"/>
                    <a:ext cx="194292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3886200" y="1143000"/>
            <a:ext cx="3533040" cy="1549440"/>
            <a:chOff x="3886200" y="1143000"/>
            <a:chExt cx="3533040" cy="1549440"/>
          </a:xfrm>
        </p:grpSpPr>
        <p:graphicFrame>
          <p:nvGraphicFramePr>
            <p:cNvPr id="140" name=""/>
            <p:cNvGraphicFramePr/>
            <p:nvPr/>
          </p:nvGraphicFramePr>
          <p:xfrm>
            <a:off x="3886200" y="1143000"/>
            <a:ext cx="393840" cy="15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143000"/>
                      <a:ext cx="393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4571280" y="1676520"/>
              <a:ext cx="2847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 at a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32440" y="3429000"/>
            <a:ext cx="43534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ontinu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5760" y="4952880"/>
            <a:ext cx="8481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an Open Interval (a,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tinuous at every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5880" y="457200"/>
            <a:ext cx="2512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e-sided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0400" y="304920"/>
            <a:ext cx="5564880" cy="858600"/>
            <a:chOff x="3200400" y="304920"/>
            <a:chExt cx="5564880" cy="858600"/>
          </a:xfrm>
        </p:grpSpPr>
        <p:graphicFrame>
          <p:nvGraphicFramePr>
            <p:cNvPr id="147" name=""/>
            <p:cNvGraphicFramePr/>
            <p:nvPr/>
          </p:nvGraphicFramePr>
          <p:xfrm>
            <a:off x="3200400" y="533520"/>
            <a:ext cx="1270080" cy="59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5335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847760" y="304920"/>
              <a:ext cx="39175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ft side limit: x approach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negative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01920" y="1295280"/>
            <a:ext cx="5599080" cy="858600"/>
            <a:chOff x="3301920" y="1295280"/>
            <a:chExt cx="5599080" cy="858600"/>
          </a:xfrm>
        </p:grpSpPr>
        <p:graphicFrame>
          <p:nvGraphicFramePr>
            <p:cNvPr id="151" name=""/>
            <p:cNvGraphicFramePr/>
            <p:nvPr/>
          </p:nvGraphicFramePr>
          <p:xfrm>
            <a:off x="3301920" y="1447920"/>
            <a:ext cx="127008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01920" y="14479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873680" y="1295280"/>
              <a:ext cx="40273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ght side limit: x approa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positive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8400" y="2936880"/>
            <a:ext cx="4872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Closed Interval [a,b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7800" y="3429000"/>
            <a:ext cx="27108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on 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52680" y="4038480"/>
            <a:ext cx="2211120" cy="749160"/>
            <a:chOff x="3352680" y="4038480"/>
            <a:chExt cx="2211120" cy="749160"/>
          </a:xfrm>
        </p:grpSpPr>
        <p:graphicFrame>
          <p:nvGraphicFramePr>
            <p:cNvPr id="157" name=""/>
            <p:cNvGraphicFramePr/>
            <p:nvPr/>
          </p:nvGraphicFramePr>
          <p:xfrm>
            <a:off x="3352680" y="4190760"/>
            <a:ext cx="1270080" cy="59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419076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4723200" y="403848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352680" y="4876920"/>
            <a:ext cx="2211120" cy="748800"/>
            <a:chOff x="3352680" y="4876920"/>
            <a:chExt cx="2211120" cy="748800"/>
          </a:xfrm>
        </p:grpSpPr>
        <p:graphicFrame>
          <p:nvGraphicFramePr>
            <p:cNvPr id="161" name=""/>
            <p:cNvGraphicFramePr/>
            <p:nvPr/>
          </p:nvGraphicFramePr>
          <p:xfrm>
            <a:off x="3352680" y="5029200"/>
            <a:ext cx="1270080" cy="59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2680" y="5029200"/>
                      <a:ext cx="12700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4723200" y="4876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04920"/>
            <a:ext cx="84582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3371760" indent="-337176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b is a real number and f(x) and g(x) are continuous at c, then the following functions are also continuous at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2840" y="1828800"/>
            <a:ext cx="1340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b[f(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6480" y="2438280"/>
            <a:ext cx="115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560" y="2936880"/>
            <a:ext cx="106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f x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93600" y="3429000"/>
            <a:ext cx="29574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f(x)/g(x) if g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061160" y="4038480"/>
            <a:ext cx="169459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site Function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the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g(x)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5268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0574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inite value which F(x) approaches from the left and right at x =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657600"/>
            <a:ext cx="502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43200" y="3733920"/>
          <a:ext cx="26668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733920"/>
                    <a:ext cx="2666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611360" y="4800600"/>
          <a:ext cx="28731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1360" y="4800600"/>
                    <a:ext cx="2873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419720" y="4800600"/>
          <a:ext cx="236196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800600"/>
                    <a:ext cx="2361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5880" y="380880"/>
            <a:ext cx="57556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Where is f(x) = ln(1+cos x) continu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7440" y="914400"/>
            <a:ext cx="8090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ince  y = 1  and  y = cos x  are continuous. 1 + cos x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for all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760" y="1752480"/>
            <a:ext cx="8055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Ln x is continuous for all x &gt; 0.  Therefore th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defined when 1+ cos x &gt;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6960" y="2666880"/>
            <a:ext cx="7544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ince -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s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this will always be true excep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 x = -1: x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,(2k-1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657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4240" y="533520"/>
            <a:ext cx="596736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Value Theore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920" y="1371600"/>
            <a:ext cx="83476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on the closed interval [a,b]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there is at least 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[a,b] such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633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657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26320" y="457200"/>
            <a:ext cx="6929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inite Lim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Contradiction in terms; a misn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0840" y="1143000"/>
            <a:ext cx="7683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e limit refers to a vertical asymptote where bo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increases without bound in the sam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24240" y="5638680"/>
            <a:ext cx="6031440" cy="675720"/>
            <a:chOff x="1524240" y="5638680"/>
            <a:chExt cx="6031440" cy="675720"/>
          </a:xfrm>
        </p:grpSpPr>
        <p:sp>
          <p:nvSpPr>
            <p:cNvPr id="182" name=""/>
            <p:cNvSpPr/>
            <p:nvPr/>
          </p:nvSpPr>
          <p:spPr>
            <a:xfrm>
              <a:off x="1524240" y="5638680"/>
              <a:ext cx="603144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e Limi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 Limi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5680" y="586728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14400" y="1981080"/>
            <a:ext cx="7696080" cy="3375000"/>
            <a:chOff x="914400" y="1981080"/>
            <a:chExt cx="7696080" cy="33750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3657600" cy="33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4572000" y="1981080"/>
              <a:ext cx="4038480" cy="33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75480" y="380880"/>
            <a:ext cx="3885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Infinit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1828800"/>
            <a:ext cx="3124080" cy="620280"/>
            <a:chOff x="2286000" y="1828800"/>
            <a:chExt cx="3124080" cy="620280"/>
          </a:xfrm>
        </p:grpSpPr>
        <p:graphicFrame>
          <p:nvGraphicFramePr>
            <p:cNvPr id="189" name=""/>
            <p:cNvGraphicFramePr/>
            <p:nvPr/>
          </p:nvGraphicFramePr>
          <p:xfrm>
            <a:off x="2666880" y="1904760"/>
            <a:ext cx="2743200" cy="54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904760"/>
                      <a:ext cx="27432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286000" y="18288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85640" y="2590920"/>
            <a:ext cx="2946240" cy="544320"/>
            <a:chOff x="2285640" y="2590920"/>
            <a:chExt cx="2946240" cy="544320"/>
          </a:xfrm>
        </p:grpSpPr>
        <p:sp>
          <p:nvSpPr>
            <p:cNvPr id="193" name=""/>
            <p:cNvSpPr/>
            <p:nvPr/>
          </p:nvSpPr>
          <p:spPr>
            <a:xfrm>
              <a:off x="2285640" y="259092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2742840" y="2590920"/>
            <a:ext cx="2489040" cy="54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2840" y="2590920"/>
                      <a:ext cx="24890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2273400" y="3200400"/>
            <a:ext cx="2298600" cy="787320"/>
            <a:chOff x="2273400" y="3200400"/>
            <a:chExt cx="2298600" cy="787320"/>
          </a:xfrm>
        </p:grpSpPr>
        <p:sp>
          <p:nvSpPr>
            <p:cNvPr id="197" name=""/>
            <p:cNvSpPr/>
            <p:nvPr/>
          </p:nvSpPr>
          <p:spPr>
            <a:xfrm>
              <a:off x="2273400" y="34290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2730600" y="3200400"/>
            <a:ext cx="184140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3200400"/>
                      <a:ext cx="18414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1976040" y="4267080"/>
            <a:ext cx="4443840" cy="544680"/>
            <a:chOff x="1976040" y="4267080"/>
            <a:chExt cx="4443840" cy="544680"/>
          </a:xfrm>
        </p:grpSpPr>
        <p:sp>
          <p:nvSpPr>
            <p:cNvPr id="201" name=""/>
            <p:cNvSpPr/>
            <p:nvPr/>
          </p:nvSpPr>
          <p:spPr>
            <a:xfrm>
              <a:off x="1976040" y="4267080"/>
              <a:ext cx="244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ilar limits f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4514760" y="4267080"/>
            <a:ext cx="1905120" cy="54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4760" y="4267080"/>
                      <a:ext cx="19051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"/>
          <p:cNvGrpSpPr/>
          <p:nvPr/>
        </p:nvGrpSpPr>
        <p:grpSpPr>
          <a:xfrm>
            <a:off x="1066320" y="1066680"/>
            <a:ext cx="5486760" cy="620640"/>
            <a:chOff x="1066320" y="1066680"/>
            <a:chExt cx="5486760" cy="620640"/>
          </a:xfrm>
        </p:grpSpPr>
        <p:graphicFrame>
          <p:nvGraphicFramePr>
            <p:cNvPr id="205" name=""/>
            <p:cNvGraphicFramePr/>
            <p:nvPr/>
          </p:nvGraphicFramePr>
          <p:xfrm>
            <a:off x="1676160" y="1143000"/>
            <a:ext cx="1790640" cy="544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160" y="1143000"/>
                      <a:ext cx="17906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724280" y="1143000"/>
            <a:ext cx="1828800" cy="544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24280" y="1143000"/>
                      <a:ext cx="18288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066320" y="1066680"/>
              <a:ext cx="348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0160" y="1066680"/>
              <a:ext cx="6192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295280"/>
            <a:ext cx="5867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Graph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Numer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Analy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438280" y="380880"/>
          <a:ext cx="327672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32767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51460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1981080"/>
          <a:ext cx="6096240" cy="70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81080"/>
                    <a:ext cx="60962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45342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1600200"/>
            <a:ext cx="6933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Limits don’t exi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Left and right limits diff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Unbounded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Oscillation between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457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and right limits diff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616040"/>
            <a:ext cx="56386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80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ounded behavi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666800"/>
            <a:ext cx="5562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cillation between valu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429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16:28:48Z</dcterms:created>
  <dc:creator>Brookstone School</dc:creator>
  <dc:description/>
  <dc:language>en-US</dc:language>
  <cp:lastModifiedBy>Owner</cp:lastModifiedBy>
  <dcterms:modified xsi:type="dcterms:W3CDTF">2008-09-19T15:45:38Z</dcterms:modified>
  <cp:revision>35</cp:revision>
  <dc:subject/>
  <dc:title>No Slide Title</dc:title>
</cp:coreProperties>
</file>