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23.wmf" ContentType="image/x-wmf"/>
  <Override PartName="/ppt/media/image51.jpeg" ContentType="image/jpeg"/>
  <Override PartName="/ppt/media/image22.wmf" ContentType="image/x-wmf"/>
  <Override PartName="/ppt/media/image21.wmf" ContentType="image/x-wmf"/>
  <Override PartName="/ppt/media/image58.wmf" ContentType="image/x-wmf"/>
  <Override PartName="/ppt/media/image19.wmf" ContentType="image/x-wmf"/>
  <Override PartName="/ppt/media/image26.jpeg" ContentType="image/jpeg"/>
  <Override PartName="/ppt/media/image20.wmf" ContentType="image/x-wmf"/>
  <Override PartName="/ppt/media/image5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3.wmf" ContentType="image/x-wmf"/>
  <Override PartName="/ppt/media/image52.jpeg" ContentType="image/jpeg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37.jpeg" ContentType="image/jpeg"/>
  <Override PartName="/ppt/media/image5.wmf" ContentType="image/x-wmf"/>
  <Override PartName="/ppt/media/image40.jpeg" ContentType="image/jpeg"/>
  <Override PartName="/ppt/media/image54.wmf" ContentType="image/x-wmf"/>
  <Override PartName="/ppt/media/image45.wmf" ContentType="image/x-wmf"/>
  <Override PartName="/ppt/media/image11.wmf" ContentType="image/x-wmf"/>
  <Override PartName="/ppt/media/image46.wmf" ContentType="image/x-wmf"/>
  <Override PartName="/ppt/media/image48.jpeg" ContentType="image/jpeg"/>
  <Override PartName="/ppt/media/image7.wmf" ContentType="image/x-wmf"/>
  <Override PartName="/ppt/media/image44.wmf" ContentType="image/x-wmf"/>
  <Override PartName="/ppt/media/image49.jpeg" ContentType="image/jpeg"/>
  <Override PartName="/ppt/media/image56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43.wmf" ContentType="image/x-wmf"/>
  <Override PartName="/ppt/media/image55.wmf" ContentType="image/x-wmf"/>
  <Override PartName="/ppt/media/image35.jpeg" ContentType="image/jpeg"/>
  <Override PartName="/ppt/media/image33.jpeg" ContentType="image/jpeg"/>
  <Override PartName="/ppt/media/image30.wmf" ContentType="image/x-wmf"/>
  <Override PartName="/ppt/media/image39.wmf" ContentType="image/x-wmf"/>
  <Override PartName="/ppt/media/image9.wmf" ContentType="image/x-wmf"/>
  <Override PartName="/ppt/media/image13.wmf" ContentType="image/x-wmf"/>
  <Override PartName="/ppt/media/image50.jpeg" ContentType="image/jpeg"/>
  <Override PartName="/ppt/media/image8.wmf" ContentType="image/x-wmf"/>
  <Override PartName="/ppt/media/image38.wmf" ContentType="image/x-wmf"/>
  <Override PartName="/ppt/media/image12.wmf" ContentType="image/x-wmf"/>
  <Override PartName="/ppt/media/image10.wmf" ContentType="image/x-wmf"/>
  <Override PartName="/ppt/media/image31.jpeg" ContentType="image/jpeg"/>
  <Override PartName="/ppt/media/image4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B1E1-B186-49CC-8AFE-E3FD39AF3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C0B2-FE82-438D-AD2E-E0849C02A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2E17-921F-4DF2-82B5-FE25FE7FF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81F6-31D6-41F0-B032-51EA6353A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3AB6-FA4B-4932-BAB6-9F4D85529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8843-C82D-44D0-A7A4-16EB3E32A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D1B0-104E-4812-B561-2EC47C161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019E-AE71-4620-81F5-81B1ABA8C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9B7C-7E78-456A-B18D-0EFFD19B8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D12E-47D0-4357-A330-58DBE2107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77B0-18F9-4941-8551-443FAB430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D0C7-4EDB-4F93-9F0C-D02CCC009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431A1-8EC2-4EB7-889B-CC9A99EBC7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wmf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wmf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9.wmf"/><Relationship Id="rId5" Type="http://schemas.openxmlformats.org/officeDocument/2006/relationships/image" Target="../media/image30.wm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wmf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3.wmf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7.wmf"/><Relationship Id="rId9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8.wm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514600" y="30492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Properties of Limi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527040" y="1130400"/>
          <a:ext cx="2235240" cy="93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" y="1130400"/>
                    <a:ext cx="2235240" cy="93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533520" y="2133720"/>
          <a:ext cx="234936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2133720"/>
                    <a:ext cx="23493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33520" y="3124080"/>
          <a:ext cx="2666880" cy="91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3124080"/>
                    <a:ext cx="266688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533520" y="4191120"/>
          <a:ext cx="4902120" cy="914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520" y="4191120"/>
                    <a:ext cx="49021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33520" y="5334120"/>
          <a:ext cx="7596000" cy="850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3520" y="5334120"/>
                    <a:ext cx="759600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828800" y="30492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Properties of Limit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Con’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533520" y="1143000"/>
          <a:ext cx="7468920" cy="100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143000"/>
                    <a:ext cx="7468920" cy="10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533520" y="2743200"/>
          <a:ext cx="4863960" cy="158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2743200"/>
                    <a:ext cx="4863960" cy="15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533520" y="4648320"/>
          <a:ext cx="5651280" cy="1168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4648320"/>
                    <a:ext cx="5651280" cy="116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2743200" y="1665360"/>
          <a:ext cx="227664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1665360"/>
                    <a:ext cx="227664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2209680" y="5124600"/>
          <a:ext cx="2044800" cy="634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9680" y="5124600"/>
                    <a:ext cx="2044800" cy="63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1371600" y="38088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09480" y="380880"/>
          <a:ext cx="4800600" cy="939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480" y="380880"/>
                    <a:ext cx="4800600" cy="9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609480" y="2971800"/>
          <a:ext cx="4699080" cy="787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9480" y="2971800"/>
                    <a:ext cx="469908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2158920" y="4051440"/>
          <a:ext cx="2057400" cy="685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158920" y="4051440"/>
                    <a:ext cx="20574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14400" y="990720"/>
            <a:ext cx="6629400" cy="43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Squeez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Theorem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676520" y="304920"/>
            <a:ext cx="576396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1219320" y="1579680"/>
          <a:ext cx="5715000" cy="315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579680"/>
                    <a:ext cx="5715000" cy="31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2057400" y="228600"/>
          <a:ext cx="3809880" cy="20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28600"/>
                    <a:ext cx="3809880" cy="20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762120" y="2362320"/>
          <a:ext cx="7545240" cy="809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2362320"/>
                    <a:ext cx="754524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2590920" y="3352680"/>
            <a:ext cx="4114800" cy="27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62120" y="473040"/>
            <a:ext cx="7467480" cy="57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2895480" y="5181480"/>
          <a:ext cx="2438640" cy="114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5181480"/>
                    <a:ext cx="2438640" cy="11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1523880" y="380880"/>
            <a:ext cx="5867640" cy="474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3880" y="914400"/>
            <a:ext cx="662940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Finding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Limit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1946160" y="4863960"/>
          <a:ext cx="5046840" cy="156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6160" y="4863960"/>
                    <a:ext cx="5046840" cy="15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1905120" y="228600"/>
            <a:ext cx="4897440" cy="46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3352680" y="5105520"/>
          <a:ext cx="2362320" cy="112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5105520"/>
                    <a:ext cx="2362320" cy="112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1752480" y="380880"/>
            <a:ext cx="588348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324080" y="581040"/>
                <a:ext cx="3582720" cy="14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θ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t xml:space="preserve">θ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≥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465200" y="2081160"/>
                <a:ext cx="4132440" cy="11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r>
                              <m:t xml:space="preserve">θ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≥</m:t>
                        </m:r>
                        <m:f>
                          <m:num>
                            <m:r>
                              <m:t xml:space="preserve">θ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≥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1351080" y="3416400"/>
                <a:ext cx="2744640" cy="11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</m:den>
                    </m:f>
                    <m:f>
                      <m:num>
                        <m:r>
                          <m:t xml:space="preserve">θ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</m:den>
                    </m:f>
                    <m:r>
                      <m:t xml:space="preserve">≥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1346040" y="4997520"/>
                <a:ext cx="226080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≤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</m:num>
                      <m:den>
                        <m:r>
                          <m:t xml:space="preserve">θ</m:t>
                        </m:r>
                      </m:den>
                    </m:f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755640" y="812880"/>
                <a:ext cx="226044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≤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</m:num>
                      <m:den>
                        <m:r>
                          <m:t xml:space="preserve">θ</m:t>
                        </m:r>
                      </m:den>
                    </m:f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21" name=""/>
          <p:cNvGraphicFramePr/>
          <p:nvPr/>
        </p:nvGraphicFramePr>
        <p:xfrm>
          <a:off x="838080" y="1905120"/>
          <a:ext cx="2149560" cy="68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05120"/>
                    <a:ext cx="214956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914400" y="2743200"/>
          <a:ext cx="2438280" cy="93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2743200"/>
                    <a:ext cx="243828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4572000" y="914400"/>
            <a:ext cx="33037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33520" y="1523880"/>
                <a:ext cx="7756560" cy="325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it</m:t>
                        </m:r>
                      </m:e>
                      <m:lim>
                        <m:r>
                          <m:t xml:space="preserve">θ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</m:num>
                      <m:den>
                        <m:r>
                          <m:t xml:space="preserve">θ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219320" y="249120"/>
            <a:ext cx="6629400" cy="628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85440" y="304920"/>
            <a:ext cx="355032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tinuit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Uninterup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5562720"/>
            <a:ext cx="241920" cy="67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00200" y="9907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(c) is def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5638680"/>
            <a:ext cx="20376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676520" y="1447920"/>
            <a:ext cx="2185200" cy="696960"/>
            <a:chOff x="1676520" y="1447920"/>
            <a:chExt cx="2185200" cy="696960"/>
          </a:xfrm>
        </p:grpSpPr>
        <p:graphicFrame>
          <p:nvGraphicFramePr>
            <p:cNvPr id="134" name=""/>
            <p:cNvGraphicFramePr/>
            <p:nvPr/>
          </p:nvGraphicFramePr>
          <p:xfrm>
            <a:off x="1676520" y="1600200"/>
            <a:ext cx="1269720" cy="544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76520" y="1600200"/>
                      <a:ext cx="1269720" cy="54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6" name=""/>
            <p:cNvSpPr/>
            <p:nvPr/>
          </p:nvSpPr>
          <p:spPr>
            <a:xfrm>
              <a:off x="3021120" y="1447920"/>
              <a:ext cx="84060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xis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37" name=""/>
          <p:cNvGraphicFramePr/>
          <p:nvPr/>
        </p:nvGraphicFramePr>
        <p:xfrm>
          <a:off x="1676520" y="2362320"/>
          <a:ext cx="1942920" cy="54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2362320"/>
                    <a:ext cx="1942920" cy="54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9" name=""/>
          <p:cNvGrpSpPr/>
          <p:nvPr/>
        </p:nvGrpSpPr>
        <p:grpSpPr>
          <a:xfrm>
            <a:off x="3886200" y="1143000"/>
            <a:ext cx="3533040" cy="1549440"/>
            <a:chOff x="3886200" y="1143000"/>
            <a:chExt cx="3533040" cy="1549440"/>
          </a:xfrm>
        </p:grpSpPr>
        <p:graphicFrame>
          <p:nvGraphicFramePr>
            <p:cNvPr id="140" name=""/>
            <p:cNvGraphicFramePr/>
            <p:nvPr/>
          </p:nvGraphicFramePr>
          <p:xfrm>
            <a:off x="3886200" y="1143000"/>
            <a:ext cx="393840" cy="15494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4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886200" y="1143000"/>
                      <a:ext cx="393840" cy="154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2" name=""/>
            <p:cNvSpPr/>
            <p:nvPr/>
          </p:nvSpPr>
          <p:spPr>
            <a:xfrm>
              <a:off x="4571280" y="1676520"/>
              <a:ext cx="284796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ntinuity at a poi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532440" y="3429000"/>
            <a:ext cx="4353480" cy="12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continuiti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Remov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n-remov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55760" y="4952880"/>
            <a:ext cx="848196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tinuity on an Open Interval (a,b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Continuous at every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05880" y="457200"/>
            <a:ext cx="251244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ne-sided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3200400" y="304920"/>
            <a:ext cx="5564880" cy="858600"/>
            <a:chOff x="3200400" y="304920"/>
            <a:chExt cx="5564880" cy="858600"/>
          </a:xfrm>
        </p:grpSpPr>
        <p:graphicFrame>
          <p:nvGraphicFramePr>
            <p:cNvPr id="147" name=""/>
            <p:cNvGraphicFramePr/>
            <p:nvPr/>
          </p:nvGraphicFramePr>
          <p:xfrm>
            <a:off x="3200400" y="533520"/>
            <a:ext cx="1270080" cy="596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00400" y="533520"/>
                      <a:ext cx="1270080" cy="59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9" name=""/>
            <p:cNvSpPr/>
            <p:nvPr/>
          </p:nvSpPr>
          <p:spPr>
            <a:xfrm>
              <a:off x="4847760" y="304920"/>
              <a:ext cx="3917520" cy="8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eft side limit: x approache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rom negative si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3301920" y="1295280"/>
            <a:ext cx="5599080" cy="858600"/>
            <a:chOff x="3301920" y="1295280"/>
            <a:chExt cx="5599080" cy="858600"/>
          </a:xfrm>
        </p:grpSpPr>
        <p:graphicFrame>
          <p:nvGraphicFramePr>
            <p:cNvPr id="151" name=""/>
            <p:cNvGraphicFramePr/>
            <p:nvPr/>
          </p:nvGraphicFramePr>
          <p:xfrm>
            <a:off x="3301920" y="1447920"/>
            <a:ext cx="1270080" cy="596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301920" y="1447920"/>
                      <a:ext cx="1270080" cy="59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3" name=""/>
            <p:cNvSpPr/>
            <p:nvPr/>
          </p:nvSpPr>
          <p:spPr>
            <a:xfrm>
              <a:off x="4873680" y="1295280"/>
              <a:ext cx="4027320" cy="8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ight side limit: x approach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rom positive sid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608400" y="2936880"/>
            <a:ext cx="487296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tinuity on Closed Interval [a,b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77800" y="3429000"/>
            <a:ext cx="271080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inuous on (a,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3352680" y="4038480"/>
            <a:ext cx="2211120" cy="749160"/>
            <a:chOff x="3352680" y="4038480"/>
            <a:chExt cx="2211120" cy="749160"/>
          </a:xfrm>
        </p:grpSpPr>
        <p:graphicFrame>
          <p:nvGraphicFramePr>
            <p:cNvPr id="157" name=""/>
            <p:cNvGraphicFramePr/>
            <p:nvPr/>
          </p:nvGraphicFramePr>
          <p:xfrm>
            <a:off x="3352680" y="4190760"/>
            <a:ext cx="1270080" cy="596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5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352680" y="4190760"/>
                      <a:ext cx="1270080" cy="59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9" name=""/>
            <p:cNvSpPr/>
            <p:nvPr/>
          </p:nvSpPr>
          <p:spPr>
            <a:xfrm>
              <a:off x="4723200" y="4038480"/>
              <a:ext cx="84060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xis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3352680" y="4876920"/>
            <a:ext cx="2211120" cy="748800"/>
            <a:chOff x="3352680" y="4876920"/>
            <a:chExt cx="2211120" cy="748800"/>
          </a:xfrm>
        </p:grpSpPr>
        <p:graphicFrame>
          <p:nvGraphicFramePr>
            <p:cNvPr id="161" name=""/>
            <p:cNvGraphicFramePr/>
            <p:nvPr/>
          </p:nvGraphicFramePr>
          <p:xfrm>
            <a:off x="3352680" y="5029200"/>
            <a:ext cx="1270080" cy="5965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6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352680" y="5029200"/>
                      <a:ext cx="1270080" cy="59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3" name=""/>
            <p:cNvSpPr/>
            <p:nvPr/>
          </p:nvSpPr>
          <p:spPr>
            <a:xfrm>
              <a:off x="4723200" y="4876920"/>
              <a:ext cx="84060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xis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04920" y="304920"/>
            <a:ext cx="8458200" cy="12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spAutoFit/>
          </a:bodyPr>
          <a:p>
            <a:pPr marL="3371760" indent="-3371760"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perties of Continuit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b is a real number and f(x) and g(x) are continuous at c, then the following functions are also continuous at 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732840" y="1828800"/>
            <a:ext cx="134064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 b[f(x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696480" y="2438280"/>
            <a:ext cx="115776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 f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733560" y="2936880"/>
            <a:ext cx="106776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 f x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693600" y="3429000"/>
            <a:ext cx="295740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 f(x)/g(x) if g(x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-4061160" y="4038480"/>
            <a:ext cx="16945920" cy="12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 marL="4286160" indent="-4286160"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osite Function Continuit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I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continuous a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86160" indent="-4286160"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inuous a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(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, then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86160" indent="-4286160"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(g(x)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continuous a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352680" y="76212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imit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43000" y="2057400"/>
            <a:ext cx="70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finite value which F(x) approaches from the left and right at x = c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81080" y="3657600"/>
            <a:ext cx="5029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743200" y="3733920"/>
          <a:ext cx="2666880" cy="83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3733920"/>
                    <a:ext cx="2666880" cy="83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1611360" y="4800600"/>
          <a:ext cx="2873160" cy="97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11360" y="4800600"/>
                    <a:ext cx="2873160" cy="9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4419720" y="4800600"/>
          <a:ext cx="2361960" cy="880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19720" y="4800600"/>
                    <a:ext cx="2361960" cy="88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05880" y="380880"/>
            <a:ext cx="575568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: Where is f(x) = ln(1+cos x) continuou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7440" y="914400"/>
            <a:ext cx="809064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Since  y = 1  and  y = cos x  are continuous. 1 + cos x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inuous for all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0760" y="1752480"/>
            <a:ext cx="805536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Ln x is continuous for all x &gt; 0.  Therefore the com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 defined when 1+ cos x &gt; 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6960" y="2666880"/>
            <a:ext cx="754452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Since -1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os x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1 this will always be true except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s x = -1: x 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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…,(2k-1)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914400" y="3733920"/>
            <a:ext cx="365760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34240" y="533520"/>
            <a:ext cx="5967360" cy="67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Intermediate Value Theore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29920" y="1371600"/>
            <a:ext cx="8347680" cy="12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continuous on the closed interval [a,b], and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an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umber betwee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(a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(b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then there is at least one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n [a,b] such tha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(c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533520" y="3048120"/>
            <a:ext cx="3657600" cy="26334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4876920" y="3048120"/>
            <a:ext cx="3657600" cy="26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526320" y="457200"/>
            <a:ext cx="692928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finite Limi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Contradiction in terms; a misnom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0840" y="1143000"/>
            <a:ext cx="768348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inite limit refers to a vertical asymptote where both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nction increases without bound in the same dir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524240" y="5638680"/>
            <a:ext cx="6031440" cy="675720"/>
            <a:chOff x="1524240" y="5638680"/>
            <a:chExt cx="6031440" cy="675720"/>
          </a:xfrm>
        </p:grpSpPr>
        <p:sp>
          <p:nvSpPr>
            <p:cNvPr id="182" name=""/>
            <p:cNvSpPr/>
            <p:nvPr/>
          </p:nvSpPr>
          <p:spPr>
            <a:xfrm>
              <a:off x="1524240" y="5638680"/>
              <a:ext cx="6031440" cy="67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finite Limit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           </a:t>
              </a:r>
              <a:r>
                <a:rPr b="1" lang="en-US" sz="3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No Limit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495680" y="5867280"/>
              <a:ext cx="914400" cy="304920"/>
            </a:xfrm>
            <a:prstGeom prst="rightArrow">
              <a:avLst>
                <a:gd name="adj1" fmla="val 50000"/>
                <a:gd name="adj2" fmla="val 7497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914400" y="1981080"/>
            <a:ext cx="7696080" cy="3375000"/>
            <a:chOff x="914400" y="1981080"/>
            <a:chExt cx="7696080" cy="3375000"/>
          </a:xfrm>
        </p:grpSpPr>
        <p:pic>
          <p:nvPicPr>
            <p:cNvPr id="185" name="" descr=""/>
            <p:cNvPicPr/>
            <p:nvPr/>
          </p:nvPicPr>
          <p:blipFill>
            <a:blip r:embed="rId1"/>
            <a:stretch/>
          </p:blipFill>
          <p:spPr>
            <a:xfrm>
              <a:off x="914400" y="1981080"/>
              <a:ext cx="3657600" cy="337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" descr=""/>
            <p:cNvPicPr/>
            <p:nvPr/>
          </p:nvPicPr>
          <p:blipFill>
            <a:blip r:embed="rId2"/>
            <a:stretch/>
          </p:blipFill>
          <p:spPr>
            <a:xfrm>
              <a:off x="4572000" y="1981080"/>
              <a:ext cx="4038480" cy="3353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75480" y="380880"/>
            <a:ext cx="388584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perties of Infinit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286000" y="1828800"/>
            <a:ext cx="3124080" cy="620280"/>
            <a:chOff x="2286000" y="1828800"/>
            <a:chExt cx="3124080" cy="620280"/>
          </a:xfrm>
        </p:grpSpPr>
        <p:graphicFrame>
          <p:nvGraphicFramePr>
            <p:cNvPr id="189" name=""/>
            <p:cNvGraphicFramePr/>
            <p:nvPr/>
          </p:nvGraphicFramePr>
          <p:xfrm>
            <a:off x="2666880" y="1904760"/>
            <a:ext cx="2743200" cy="544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666880" y="1904760"/>
                      <a:ext cx="2743200" cy="544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1" name=""/>
            <p:cNvSpPr/>
            <p:nvPr/>
          </p:nvSpPr>
          <p:spPr>
            <a:xfrm>
              <a:off x="2286000" y="1828800"/>
              <a:ext cx="50832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.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2285640" y="2590920"/>
            <a:ext cx="2946240" cy="544320"/>
            <a:chOff x="2285640" y="2590920"/>
            <a:chExt cx="2946240" cy="544320"/>
          </a:xfrm>
        </p:grpSpPr>
        <p:sp>
          <p:nvSpPr>
            <p:cNvPr id="193" name=""/>
            <p:cNvSpPr/>
            <p:nvPr/>
          </p:nvSpPr>
          <p:spPr>
            <a:xfrm>
              <a:off x="2285640" y="2590920"/>
              <a:ext cx="50832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.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4" name=""/>
            <p:cNvGraphicFramePr/>
            <p:nvPr/>
          </p:nvGraphicFramePr>
          <p:xfrm>
            <a:off x="2742840" y="2590920"/>
            <a:ext cx="2489040" cy="544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742840" y="2590920"/>
                      <a:ext cx="2489040" cy="544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96" name=""/>
          <p:cNvGrpSpPr/>
          <p:nvPr/>
        </p:nvGrpSpPr>
        <p:grpSpPr>
          <a:xfrm>
            <a:off x="2273400" y="3200400"/>
            <a:ext cx="2298600" cy="787320"/>
            <a:chOff x="2273400" y="3200400"/>
            <a:chExt cx="2298600" cy="787320"/>
          </a:xfrm>
        </p:grpSpPr>
        <p:sp>
          <p:nvSpPr>
            <p:cNvPr id="197" name=""/>
            <p:cNvSpPr/>
            <p:nvPr/>
          </p:nvSpPr>
          <p:spPr>
            <a:xfrm>
              <a:off x="2273400" y="3429000"/>
              <a:ext cx="50832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.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8" name=""/>
            <p:cNvGraphicFramePr/>
            <p:nvPr/>
          </p:nvGraphicFramePr>
          <p:xfrm>
            <a:off x="2730600" y="3200400"/>
            <a:ext cx="1841400" cy="7873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9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730600" y="3200400"/>
                      <a:ext cx="184140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00" name=""/>
          <p:cNvGrpSpPr/>
          <p:nvPr/>
        </p:nvGrpSpPr>
        <p:grpSpPr>
          <a:xfrm>
            <a:off x="1976040" y="4267080"/>
            <a:ext cx="4443840" cy="544680"/>
            <a:chOff x="1976040" y="4267080"/>
            <a:chExt cx="4443840" cy="544680"/>
          </a:xfrm>
        </p:grpSpPr>
        <p:sp>
          <p:nvSpPr>
            <p:cNvPr id="201" name=""/>
            <p:cNvSpPr/>
            <p:nvPr/>
          </p:nvSpPr>
          <p:spPr>
            <a:xfrm>
              <a:off x="1976040" y="4267080"/>
              <a:ext cx="244548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imilar limits for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02" name=""/>
            <p:cNvGraphicFramePr/>
            <p:nvPr/>
          </p:nvGraphicFramePr>
          <p:xfrm>
            <a:off x="4514760" y="4267080"/>
            <a:ext cx="1905120" cy="544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0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514760" y="4267080"/>
                      <a:ext cx="1905120" cy="54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04" name=""/>
          <p:cNvGrpSpPr/>
          <p:nvPr/>
        </p:nvGrpSpPr>
        <p:grpSpPr>
          <a:xfrm>
            <a:off x="1066320" y="1066680"/>
            <a:ext cx="5486760" cy="620640"/>
            <a:chOff x="1066320" y="1066680"/>
            <a:chExt cx="5486760" cy="620640"/>
          </a:xfrm>
        </p:grpSpPr>
        <p:graphicFrame>
          <p:nvGraphicFramePr>
            <p:cNvPr id="205" name=""/>
            <p:cNvGraphicFramePr/>
            <p:nvPr/>
          </p:nvGraphicFramePr>
          <p:xfrm>
            <a:off x="1676160" y="1143000"/>
            <a:ext cx="1790640" cy="5443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0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676160" y="1143000"/>
                      <a:ext cx="1790640" cy="544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7" name=""/>
            <p:cNvGraphicFramePr/>
            <p:nvPr/>
          </p:nvGraphicFramePr>
          <p:xfrm>
            <a:off x="4724280" y="1143000"/>
            <a:ext cx="1828800" cy="5443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08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724280" y="1143000"/>
                      <a:ext cx="1828800" cy="544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9" name=""/>
            <p:cNvSpPr/>
            <p:nvPr/>
          </p:nvSpPr>
          <p:spPr>
            <a:xfrm>
              <a:off x="1066320" y="1066680"/>
              <a:ext cx="34848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800160" y="1066680"/>
              <a:ext cx="61920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1295280"/>
            <a:ext cx="586728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thods of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 Graphic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 Numeric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 Analytic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2438280" y="380880"/>
          <a:ext cx="3276720" cy="137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380880"/>
                    <a:ext cx="3276720" cy="13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990720" y="2514600"/>
            <a:ext cx="7467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295280" y="1981080"/>
          <a:ext cx="6096240" cy="701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1981080"/>
                    <a:ext cx="609624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981080" y="3048120"/>
            <a:ext cx="4534200" cy="30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90720" y="1600200"/>
            <a:ext cx="693396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en Limits don’t exist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  Left and right limits diff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  Unbounded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  Oscillation between valu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914400" y="45720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ft and right limits differ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05120" y="1616040"/>
            <a:ext cx="5638680" cy="38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09480" y="38088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bounded behavior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81080" y="1666800"/>
            <a:ext cx="5562720" cy="37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7200" y="38088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scillation between value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3429000" cy="23320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3429000" cy="23320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762120" y="3962520"/>
            <a:ext cx="3429000" cy="2332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4572000" y="3962520"/>
            <a:ext cx="342900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31T16:28:48Z</dcterms:created>
  <dc:creator>Brookstone School</dc:creator>
  <dc:description/>
  <dc:language>en-US</dc:language>
  <cp:lastModifiedBy>Owner</cp:lastModifiedBy>
  <dcterms:modified xsi:type="dcterms:W3CDTF">2008-09-19T15:45:38Z</dcterms:modified>
  <cp:revision>35</cp:revision>
  <dc:subject/>
  <dc:title>No Slide Title</dc:title>
</cp:coreProperties>
</file>