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51.jpeg" ContentType="image/jpeg"/>
  <Override PartName="/ppt/media/image22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6.jpeg" ContentType="image/jpeg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3.wmf" ContentType="image/x-wmf"/>
  <Override PartName="/ppt/media/image52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37.jpeg" ContentType="image/jpeg"/>
  <Override PartName="/ppt/media/image5.wmf" ContentType="image/x-wmf"/>
  <Override PartName="/ppt/media/image40.jpeg" ContentType="image/jpeg"/>
  <Override PartName="/ppt/media/image54.wmf" ContentType="image/x-wmf"/>
  <Override PartName="/ppt/media/image45.wmf" ContentType="image/x-wmf"/>
  <Override PartName="/ppt/media/image11.wmf" ContentType="image/x-wmf"/>
  <Override PartName="/ppt/media/image46.wmf" ContentType="image/x-wmf"/>
  <Override PartName="/ppt/media/image48.jpeg" ContentType="image/jpeg"/>
  <Override PartName="/ppt/media/image7.wmf" ContentType="image/x-wmf"/>
  <Override PartName="/ppt/media/image44.wmf" ContentType="image/x-wmf"/>
  <Override PartName="/ppt/media/image49.jpeg" ContentType="image/jpeg"/>
  <Override PartName="/ppt/media/image56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43.wmf" ContentType="image/x-wmf"/>
  <Override PartName="/ppt/media/image55.wmf" ContentType="image/x-wmf"/>
  <Override PartName="/ppt/media/image35.jpeg" ContentType="image/jpeg"/>
  <Override PartName="/ppt/media/image33.jpeg" ContentType="image/jpeg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50.jpeg" ContentType="image/jpeg"/>
  <Override PartName="/ppt/media/image8.wmf" ContentType="image/x-wmf"/>
  <Override PartName="/ppt/media/image38.wmf" ContentType="image/x-wmf"/>
  <Override PartName="/ppt/media/image12.wmf" ContentType="image/x-wmf"/>
  <Override PartName="/ppt/media/image10.wmf" ContentType="image/x-wmf"/>
  <Override PartName="/ppt/media/image31.jpeg" ContentType="image/jpeg"/>
  <Override PartName="/ppt/media/image4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0E21-D6E8-491D-AE5F-33632EBA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F2D5-6CC2-4EA2-845C-3F8502D2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4F42-0EFC-4B5F-A76B-3899E5339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2917-9423-42FF-BD6D-DA151D41E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6642-D68B-496C-A4DD-B3477BD0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0632-F5DC-4553-A4ED-AAE9BEB4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9937-9B6B-4161-B325-469B559D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5C67-3B7F-4B04-B14C-C15C2C45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EF9D-6183-46B1-ADEE-3EEA6827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3641-431C-4775-B8BB-C7801C8E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C0B3-9072-4D19-8E45-3E9EDCA0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76A2-9A21-4074-B56B-585EB87C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343F-D77F-4BED-B154-3646CFE4F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8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14600" y="3049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roperties of Lim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27040" y="1130400"/>
          <a:ext cx="223524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1130400"/>
                    <a:ext cx="223524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33520" y="2133720"/>
          <a:ext cx="23493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133720"/>
                    <a:ext cx="23493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33520" y="3124080"/>
          <a:ext cx="266688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3124080"/>
                    <a:ext cx="26668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33520" y="4191120"/>
          <a:ext cx="490212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4191120"/>
                    <a:ext cx="4902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33520" y="5334120"/>
          <a:ext cx="7596000" cy="850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520" y="5334120"/>
                    <a:ext cx="759600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828800" y="3049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roperties of Limit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Con’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33520" y="1143000"/>
          <a:ext cx="7468920" cy="10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746892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533520" y="2743200"/>
          <a:ext cx="4863960" cy="158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743200"/>
                    <a:ext cx="486396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533520" y="4648320"/>
          <a:ext cx="5651280" cy="116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648320"/>
                    <a:ext cx="565128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2743200" y="1665360"/>
          <a:ext cx="227664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665360"/>
                    <a:ext cx="227664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2209680" y="5124600"/>
          <a:ext cx="2044800" cy="63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5124600"/>
                    <a:ext cx="2044800" cy="63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371600" y="38088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09480" y="380880"/>
          <a:ext cx="4800600" cy="93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80880"/>
                    <a:ext cx="480060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09480" y="2971800"/>
          <a:ext cx="4699080" cy="78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2971800"/>
                    <a:ext cx="46990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158920" y="4051440"/>
          <a:ext cx="2057400" cy="68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58920" y="4051440"/>
                    <a:ext cx="20574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990720"/>
            <a:ext cx="662940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Squeez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7639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219320" y="1579680"/>
          <a:ext cx="5715000" cy="31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79680"/>
                    <a:ext cx="5715000" cy="31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2057400" y="228600"/>
          <a:ext cx="3809880" cy="20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28600"/>
                    <a:ext cx="3809880" cy="20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762120" y="2362320"/>
          <a:ext cx="7545240" cy="809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362320"/>
                    <a:ext cx="754524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590920" y="3352680"/>
            <a:ext cx="411480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473040"/>
            <a:ext cx="746748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95480" y="5181480"/>
          <a:ext cx="2438640" cy="11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5181480"/>
                    <a:ext cx="243864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5867640" cy="47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914400"/>
            <a:ext cx="662940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Finding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Limit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946160" y="4863960"/>
          <a:ext cx="5046840" cy="15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6160" y="4863960"/>
                    <a:ext cx="5046840" cy="15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905120" y="228600"/>
            <a:ext cx="489744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352680" y="5105520"/>
          <a:ext cx="2362320" cy="11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5105520"/>
                    <a:ext cx="236232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752480" y="380880"/>
            <a:ext cx="588348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324080" y="581040"/>
                <a:ext cx="358272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465200" y="2081160"/>
                <a:ext cx="413244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≥</m:t>
                        </m:r>
                        <m:f>
                          <m:num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≥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351080" y="3416400"/>
                <a:ext cx="274464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den>
                    </m:f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346040" y="4997520"/>
                <a:ext cx="2260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≤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θ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55640" y="812880"/>
                <a:ext cx="2260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≤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θ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1" name=""/>
          <p:cNvGraphicFramePr/>
          <p:nvPr/>
        </p:nvGraphicFramePr>
        <p:xfrm>
          <a:off x="838080" y="1905120"/>
          <a:ext cx="214956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214956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14400" y="2743200"/>
          <a:ext cx="243828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743200"/>
                    <a:ext cx="243828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4572000" y="914400"/>
            <a:ext cx="33037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3520" y="1523880"/>
                <a:ext cx="7756560" cy="325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it</m:t>
                        </m:r>
                      </m:e>
                      <m:lim>
                        <m:r>
                          <m:t xml:space="preserve">θ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θ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19320" y="249120"/>
            <a:ext cx="6629400" cy="628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440" y="304920"/>
            <a:ext cx="355032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inu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Uninterup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5562720"/>
            <a:ext cx="24192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990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(c) is 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5638680"/>
            <a:ext cx="20376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676520" y="1447920"/>
            <a:ext cx="2185200" cy="696960"/>
            <a:chOff x="1676520" y="1447920"/>
            <a:chExt cx="2185200" cy="696960"/>
          </a:xfrm>
        </p:grpSpPr>
        <p:graphicFrame>
          <p:nvGraphicFramePr>
            <p:cNvPr id="134" name=""/>
            <p:cNvGraphicFramePr/>
            <p:nvPr/>
          </p:nvGraphicFramePr>
          <p:xfrm>
            <a:off x="1676520" y="1600200"/>
            <a:ext cx="1269720" cy="54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76520" y="1600200"/>
                      <a:ext cx="1269720" cy="5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" name=""/>
            <p:cNvSpPr/>
            <p:nvPr/>
          </p:nvSpPr>
          <p:spPr>
            <a:xfrm>
              <a:off x="3021120" y="1447920"/>
              <a:ext cx="8406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i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7" name=""/>
          <p:cNvGraphicFramePr/>
          <p:nvPr/>
        </p:nvGraphicFramePr>
        <p:xfrm>
          <a:off x="1676520" y="2362320"/>
          <a:ext cx="1942920" cy="54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362320"/>
                    <a:ext cx="194292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9" name=""/>
          <p:cNvGrpSpPr/>
          <p:nvPr/>
        </p:nvGrpSpPr>
        <p:grpSpPr>
          <a:xfrm>
            <a:off x="3886200" y="1143000"/>
            <a:ext cx="3533040" cy="1549440"/>
            <a:chOff x="3886200" y="1143000"/>
            <a:chExt cx="3533040" cy="1549440"/>
          </a:xfrm>
        </p:grpSpPr>
        <p:graphicFrame>
          <p:nvGraphicFramePr>
            <p:cNvPr id="140" name=""/>
            <p:cNvGraphicFramePr/>
            <p:nvPr/>
          </p:nvGraphicFramePr>
          <p:xfrm>
            <a:off x="3886200" y="1143000"/>
            <a:ext cx="393840" cy="1549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86200" y="1143000"/>
                      <a:ext cx="393840" cy="15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" name=""/>
            <p:cNvSpPr/>
            <p:nvPr/>
          </p:nvSpPr>
          <p:spPr>
            <a:xfrm>
              <a:off x="4571280" y="1676520"/>
              <a:ext cx="28479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inuity at a po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532440" y="3429000"/>
            <a:ext cx="435348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ontinuiti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Remo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-remo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5760" y="4952880"/>
            <a:ext cx="848196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inuity on an Open Interval (a,b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Continuous at every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05880" y="457200"/>
            <a:ext cx="25124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e-sided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200400" y="304920"/>
            <a:ext cx="5564880" cy="858600"/>
            <a:chOff x="3200400" y="304920"/>
            <a:chExt cx="5564880" cy="858600"/>
          </a:xfrm>
        </p:grpSpPr>
        <p:graphicFrame>
          <p:nvGraphicFramePr>
            <p:cNvPr id="147" name=""/>
            <p:cNvGraphicFramePr/>
            <p:nvPr/>
          </p:nvGraphicFramePr>
          <p:xfrm>
            <a:off x="3200400" y="533520"/>
            <a:ext cx="1270080" cy="596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00400" y="533520"/>
                      <a:ext cx="12700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9" name=""/>
            <p:cNvSpPr/>
            <p:nvPr/>
          </p:nvSpPr>
          <p:spPr>
            <a:xfrm>
              <a:off x="4847760" y="304920"/>
              <a:ext cx="39175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eft side limit: x approach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om negative si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01920" y="1295280"/>
            <a:ext cx="5599080" cy="858600"/>
            <a:chOff x="3301920" y="1295280"/>
            <a:chExt cx="5599080" cy="858600"/>
          </a:xfrm>
        </p:grpSpPr>
        <p:graphicFrame>
          <p:nvGraphicFramePr>
            <p:cNvPr id="151" name=""/>
            <p:cNvGraphicFramePr/>
            <p:nvPr/>
          </p:nvGraphicFramePr>
          <p:xfrm>
            <a:off x="3301920" y="1447920"/>
            <a:ext cx="1270080" cy="596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301920" y="1447920"/>
                      <a:ext cx="12700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>
              <a:off x="4873680" y="1295280"/>
              <a:ext cx="40273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ight side limit: x approach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om positive sid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08400" y="2936880"/>
            <a:ext cx="487296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inuity on Closed Interval [a,b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7800" y="3429000"/>
            <a:ext cx="271080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uous on (a,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352680" y="4038480"/>
            <a:ext cx="2211120" cy="749160"/>
            <a:chOff x="3352680" y="4038480"/>
            <a:chExt cx="2211120" cy="749160"/>
          </a:xfrm>
        </p:grpSpPr>
        <p:graphicFrame>
          <p:nvGraphicFramePr>
            <p:cNvPr id="157" name=""/>
            <p:cNvGraphicFramePr/>
            <p:nvPr/>
          </p:nvGraphicFramePr>
          <p:xfrm>
            <a:off x="3352680" y="4190760"/>
            <a:ext cx="1270080" cy="596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52680" y="4190760"/>
                      <a:ext cx="12700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9" name=""/>
            <p:cNvSpPr/>
            <p:nvPr/>
          </p:nvSpPr>
          <p:spPr>
            <a:xfrm>
              <a:off x="4723200" y="4038480"/>
              <a:ext cx="8406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i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352680" y="4876920"/>
            <a:ext cx="2211120" cy="748800"/>
            <a:chOff x="3352680" y="4876920"/>
            <a:chExt cx="2211120" cy="748800"/>
          </a:xfrm>
        </p:grpSpPr>
        <p:graphicFrame>
          <p:nvGraphicFramePr>
            <p:cNvPr id="161" name=""/>
            <p:cNvGraphicFramePr/>
            <p:nvPr/>
          </p:nvGraphicFramePr>
          <p:xfrm>
            <a:off x="3352680" y="5029200"/>
            <a:ext cx="1270080" cy="596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352680" y="5029200"/>
                      <a:ext cx="1270080" cy="59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" name=""/>
            <p:cNvSpPr/>
            <p:nvPr/>
          </p:nvSpPr>
          <p:spPr>
            <a:xfrm>
              <a:off x="4723200" y="4876920"/>
              <a:ext cx="8406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i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04920" y="304920"/>
            <a:ext cx="845820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 marL="3371760" indent="-337176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perties of Continu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b is a real number and f(x) and g(x) are continuous at c, then the following functions are also continuous at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2840" y="1828800"/>
            <a:ext cx="13406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b[f(x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96480" y="2438280"/>
            <a:ext cx="115776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33560" y="2936880"/>
            <a:ext cx="106776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f x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93600" y="3429000"/>
            <a:ext cx="295740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f(x)/g(x) if g(x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-4061160" y="4038480"/>
            <a:ext cx="1694592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 marL="4286160" indent="-428616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osite Function Continu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I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continuous 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6160" indent="-428616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uous 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(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, the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6160" indent="-428616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g(x)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continuous 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352680" y="76212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mi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205740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finite value which F(x) approaches from the left and right at x = 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657600"/>
            <a:ext cx="502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743200" y="3733920"/>
          <a:ext cx="2666880" cy="83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733920"/>
                    <a:ext cx="266688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611360" y="4800600"/>
          <a:ext cx="2873160" cy="97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1360" y="4800600"/>
                    <a:ext cx="287316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4419720" y="4800600"/>
          <a:ext cx="2361960" cy="88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4800600"/>
                    <a:ext cx="236196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05880" y="380880"/>
            <a:ext cx="575568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: Where is f(x) = ln(1+cos x) continuo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7440" y="914400"/>
            <a:ext cx="809064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Since  y = 1  and  y = cos x  are continuous. 1 + cos x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uous for all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0760" y="1752480"/>
            <a:ext cx="80553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Ln x is continuous for all x &gt; 0.  Therefore the 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defined when 1+ cos x &gt;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6960" y="2666880"/>
            <a:ext cx="75445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Since -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s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 this will always be true excep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 x = -1: x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…,(2k-1)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36576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34240" y="533520"/>
            <a:ext cx="596736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ntermediate Value Theore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9920" y="1371600"/>
            <a:ext cx="834768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continuous on the closed interval [a,b],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ber betwe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a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b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then there is at least on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[a,b] such th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c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3657600" cy="2633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876920" y="3048120"/>
            <a:ext cx="365760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26320" y="457200"/>
            <a:ext cx="692928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finite Limi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Contradiction in terms; a misno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0840" y="1143000"/>
            <a:ext cx="76834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nite limit refers to a vertical asymptote where both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ction increases without bound in the same dir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524240" y="5638680"/>
            <a:ext cx="6031440" cy="675720"/>
            <a:chOff x="1524240" y="5638680"/>
            <a:chExt cx="6031440" cy="675720"/>
          </a:xfrm>
        </p:grpSpPr>
        <p:sp>
          <p:nvSpPr>
            <p:cNvPr id="182" name=""/>
            <p:cNvSpPr/>
            <p:nvPr/>
          </p:nvSpPr>
          <p:spPr>
            <a:xfrm>
              <a:off x="1524240" y="5638680"/>
              <a:ext cx="6031440" cy="67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finite Limi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o Limi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95680" y="5867280"/>
              <a:ext cx="914400" cy="304920"/>
            </a:xfrm>
            <a:prstGeom prst="rightArrow">
              <a:avLst>
                <a:gd name="adj1" fmla="val 50000"/>
                <a:gd name="adj2" fmla="val 7497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914400" y="1981080"/>
            <a:ext cx="7696080" cy="3375000"/>
            <a:chOff x="914400" y="1981080"/>
            <a:chExt cx="7696080" cy="3375000"/>
          </a:xfrm>
        </p:grpSpPr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914400" y="1981080"/>
              <a:ext cx="3657600" cy="337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2"/>
            <a:stretch/>
          </p:blipFill>
          <p:spPr>
            <a:xfrm>
              <a:off x="4572000" y="1981080"/>
              <a:ext cx="4038480" cy="3353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75480" y="380880"/>
            <a:ext cx="38858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perties of Infinit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286000" y="1828800"/>
            <a:ext cx="3124080" cy="620280"/>
            <a:chOff x="2286000" y="1828800"/>
            <a:chExt cx="3124080" cy="620280"/>
          </a:xfrm>
        </p:grpSpPr>
        <p:graphicFrame>
          <p:nvGraphicFramePr>
            <p:cNvPr id="189" name=""/>
            <p:cNvGraphicFramePr/>
            <p:nvPr/>
          </p:nvGraphicFramePr>
          <p:xfrm>
            <a:off x="2666880" y="1904760"/>
            <a:ext cx="2743200" cy="544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66880" y="1904760"/>
                      <a:ext cx="2743200" cy="54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1" name=""/>
            <p:cNvSpPr/>
            <p:nvPr/>
          </p:nvSpPr>
          <p:spPr>
            <a:xfrm>
              <a:off x="2286000" y="1828800"/>
              <a:ext cx="50832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285640" y="2590920"/>
            <a:ext cx="2946240" cy="544320"/>
            <a:chOff x="2285640" y="2590920"/>
            <a:chExt cx="2946240" cy="544320"/>
          </a:xfrm>
        </p:grpSpPr>
        <p:sp>
          <p:nvSpPr>
            <p:cNvPr id="193" name=""/>
            <p:cNvSpPr/>
            <p:nvPr/>
          </p:nvSpPr>
          <p:spPr>
            <a:xfrm>
              <a:off x="2285640" y="2590920"/>
              <a:ext cx="50832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4" name=""/>
            <p:cNvGraphicFramePr/>
            <p:nvPr/>
          </p:nvGraphicFramePr>
          <p:xfrm>
            <a:off x="2742840" y="2590920"/>
            <a:ext cx="2489040" cy="544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42840" y="2590920"/>
                      <a:ext cx="2489040" cy="54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6" name=""/>
          <p:cNvGrpSpPr/>
          <p:nvPr/>
        </p:nvGrpSpPr>
        <p:grpSpPr>
          <a:xfrm>
            <a:off x="2273400" y="3200400"/>
            <a:ext cx="2298600" cy="787320"/>
            <a:chOff x="2273400" y="3200400"/>
            <a:chExt cx="2298600" cy="787320"/>
          </a:xfrm>
        </p:grpSpPr>
        <p:sp>
          <p:nvSpPr>
            <p:cNvPr id="197" name=""/>
            <p:cNvSpPr/>
            <p:nvPr/>
          </p:nvSpPr>
          <p:spPr>
            <a:xfrm>
              <a:off x="2273400" y="3429000"/>
              <a:ext cx="50832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8" name=""/>
            <p:cNvGraphicFramePr/>
            <p:nvPr/>
          </p:nvGraphicFramePr>
          <p:xfrm>
            <a:off x="2730600" y="3200400"/>
            <a:ext cx="1841400" cy="787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30600" y="3200400"/>
                      <a:ext cx="184140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0" name=""/>
          <p:cNvGrpSpPr/>
          <p:nvPr/>
        </p:nvGrpSpPr>
        <p:grpSpPr>
          <a:xfrm>
            <a:off x="1976040" y="4267080"/>
            <a:ext cx="4443840" cy="544680"/>
            <a:chOff x="1976040" y="4267080"/>
            <a:chExt cx="4443840" cy="544680"/>
          </a:xfrm>
        </p:grpSpPr>
        <p:sp>
          <p:nvSpPr>
            <p:cNvPr id="201" name=""/>
            <p:cNvSpPr/>
            <p:nvPr/>
          </p:nvSpPr>
          <p:spPr>
            <a:xfrm>
              <a:off x="1976040" y="4267080"/>
              <a:ext cx="244548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imilar limits fo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2" name=""/>
            <p:cNvGraphicFramePr/>
            <p:nvPr/>
          </p:nvGraphicFramePr>
          <p:xfrm>
            <a:off x="4514760" y="4267080"/>
            <a:ext cx="1905120" cy="544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14760" y="4267080"/>
                      <a:ext cx="1905120" cy="5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4" name=""/>
          <p:cNvGrpSpPr/>
          <p:nvPr/>
        </p:nvGrpSpPr>
        <p:grpSpPr>
          <a:xfrm>
            <a:off x="1066320" y="1066680"/>
            <a:ext cx="5486760" cy="620640"/>
            <a:chOff x="1066320" y="1066680"/>
            <a:chExt cx="5486760" cy="620640"/>
          </a:xfrm>
        </p:grpSpPr>
        <p:graphicFrame>
          <p:nvGraphicFramePr>
            <p:cNvPr id="205" name=""/>
            <p:cNvGraphicFramePr/>
            <p:nvPr/>
          </p:nvGraphicFramePr>
          <p:xfrm>
            <a:off x="1676160" y="1143000"/>
            <a:ext cx="1790640" cy="544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676160" y="1143000"/>
                      <a:ext cx="1790640" cy="54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7" name=""/>
            <p:cNvGraphicFramePr/>
            <p:nvPr/>
          </p:nvGraphicFramePr>
          <p:xfrm>
            <a:off x="4724280" y="1143000"/>
            <a:ext cx="1828800" cy="544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724280" y="1143000"/>
                      <a:ext cx="1828800" cy="54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9" name=""/>
            <p:cNvSpPr/>
            <p:nvPr/>
          </p:nvSpPr>
          <p:spPr>
            <a:xfrm>
              <a:off x="1066320" y="1066680"/>
              <a:ext cx="34848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00160" y="1066680"/>
              <a:ext cx="6192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1295280"/>
            <a:ext cx="586728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ds of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 Graph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Numer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 Analyt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2438280" y="380880"/>
          <a:ext cx="3276720" cy="13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80880"/>
                    <a:ext cx="327672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990720" y="2514600"/>
            <a:ext cx="746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295280" y="1981080"/>
          <a:ext cx="6096240" cy="701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81080"/>
                    <a:ext cx="609624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981080" y="3048120"/>
            <a:ext cx="4534200" cy="30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90720" y="1600200"/>
            <a:ext cx="69339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Limits don’t exis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 Left and right limits diff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 Unbounded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 Oscillation between val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14400" y="4572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ft and right limits diff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05120" y="1616040"/>
            <a:ext cx="563868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09480" y="3808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bounded behavio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81080" y="1666800"/>
            <a:ext cx="556272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3808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scillation between valu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3429000" cy="2332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3429000" cy="2332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762120" y="3962520"/>
            <a:ext cx="3429000" cy="2332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572000" y="3962520"/>
            <a:ext cx="34290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1T16:28:48Z</dcterms:created>
  <dc:creator>Brookstone School</dc:creator>
  <dc:description/>
  <dc:language>en-US</dc:language>
  <cp:lastModifiedBy>Owner</cp:lastModifiedBy>
  <dcterms:modified xsi:type="dcterms:W3CDTF">2008-09-19T15:45:38Z</dcterms:modified>
  <cp:revision>35</cp:revision>
  <dc:subject/>
  <dc:title>No Slide Title</dc:title>
</cp:coreProperties>
</file>