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25.wmf" ContentType="image/x-wmf"/>
  <Override PartName="/ppt/media/image90.wmf" ContentType="image/x-wmf"/>
  <Override PartName="/ppt/media/image29.wmf" ContentType="image/x-wmf"/>
  <Override PartName="/ppt/media/image94.wmf" ContentType="image/x-wmf"/>
  <Override PartName="/ppt/media/image1.png" ContentType="image/png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02.wmf" ContentType="image/x-wmf"/>
  <Override PartName="/ppt/media/image95.wmf" ContentType="image/x-wmf"/>
  <Override PartName="/ppt/media/image103.wmf" ContentType="image/x-wmf"/>
  <Override PartName="/ppt/media/image96.wmf" ContentType="image/x-wmf"/>
  <Override PartName="/ppt/media/image126.wmf" ContentType="image/x-wmf"/>
  <Override PartName="/ppt/media/image114.wmf" ContentType="image/x-wmf"/>
  <Override PartName="/ppt/media/image70.wmf" ContentType="image/x-wmf"/>
  <Override PartName="/ppt/media/image125.wmf" ContentType="image/x-wmf"/>
  <Override PartName="/ppt/media/image113.wmf" ContentType="image/x-wmf"/>
  <Override PartName="/ppt/media/image124.wmf" ContentType="image/x-wmf"/>
  <Override PartName="/ppt/media/image112.wmf" ContentType="image/x-wmf"/>
  <Override PartName="/ppt/media/image123.wmf" ContentType="image/x-wmf"/>
  <Override PartName="/ppt/media/image89.wmf" ContentType="image/x-wmf"/>
  <Override PartName="/ppt/media/image11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116.wmf" ContentType="image/x-wmf"/>
  <Override PartName="/ppt/media/image72.wmf" ContentType="image/x-wmf"/>
  <Override PartName="/ppt/media/image115.wmf" ContentType="image/x-wmf"/>
  <Override PartName="/ppt/media/image71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20624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0624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97920" y="420624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3320" y="152388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5760" y="152388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20624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3320" y="420624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5760" y="420624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20624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97920" y="420624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20624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12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6.wmf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3.wmf"/><Relationship Id="rId7" Type="http://schemas.openxmlformats.org/officeDocument/2006/relationships/image" Target="../media/image84.wmf"/><Relationship Id="rId8" Type="http://schemas.openxmlformats.org/officeDocument/2006/relationships/image" Target="../media/image85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image" Target="../media/image8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image" Target="../media/image89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image" Target="../media/image9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4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6.wmf"/><Relationship Id="rId4" Type="http://schemas.openxmlformats.org/officeDocument/2006/relationships/image" Target="../media/image97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image" Target="../media/image99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image" Target="../media/image10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wmf"/><Relationship Id="rId3" Type="http://schemas.openxmlformats.org/officeDocument/2006/relationships/image" Target="../media/image107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image" Target="../media/image111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image" Target="../media/image113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image" Target="../media/image115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8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9.wmf"/><Relationship Id="rId3" Type="http://schemas.openxmlformats.org/officeDocument/2006/relationships/image" Target="../media/image1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2.wmf"/><Relationship Id="rId8" Type="http://schemas.openxmlformats.org/officeDocument/2006/relationships/image" Target="../media/image12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4.wmf"/><Relationship Id="rId11" Type="http://schemas.openxmlformats.org/officeDocument/2006/relationships/image" Target="../media/image125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26.wmf"/><Relationship Id="rId14" Type="http://schemas.openxmlformats.org/officeDocument/2006/relationships/image" Target="../media/image117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4.wmf"/><Relationship Id="rId14" Type="http://schemas.openxmlformats.org/officeDocument/2006/relationships/image" Target="../media/image26.wmf"/><Relationship Id="rId1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9.wmf"/><Relationship Id="rId3" Type="http://schemas.openxmlformats.org/officeDocument/2006/relationships/image" Target="../media/image1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2.wmf"/><Relationship Id="rId8" Type="http://schemas.openxmlformats.org/officeDocument/2006/relationships/image" Target="../media/image123.wmf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2.wmf"/><Relationship Id="rId5" Type="http://schemas.openxmlformats.org/officeDocument/2006/relationships/image" Target="../media/image1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4.wmf"/><Relationship Id="rId8" Type="http://schemas.openxmlformats.org/officeDocument/2006/relationships/image" Target="../media/image125.wm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4.wmf"/><Relationship Id="rId3" Type="http://schemas.openxmlformats.org/officeDocument/2006/relationships/image" Target="../media/image1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6.wmf"/><Relationship Id="rId6" Type="http://schemas.openxmlformats.org/officeDocument/2006/relationships/image" Target="../media/image117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25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image" Target="../media/image36.wmf"/><Relationship Id="rId17" Type="http://schemas.openxmlformats.org/officeDocument/2006/relationships/image" Target="../media/image37.wmf"/><Relationship Id="rId18" Type="http://schemas.openxmlformats.org/officeDocument/2006/relationships/image" Target="../media/image38.wmf"/><Relationship Id="rId19" Type="http://schemas.openxmlformats.org/officeDocument/2006/relationships/image" Target="../media/image30.wmf"/><Relationship Id="rId20" Type="http://schemas.openxmlformats.org/officeDocument/2006/relationships/image" Target="../media/image37.wmf"/><Relationship Id="rId21" Type="http://schemas.openxmlformats.org/officeDocument/2006/relationships/image" Target="../media/image39.wmf"/><Relationship Id="rId22" Type="http://schemas.openxmlformats.org/officeDocument/2006/relationships/image" Target="../media/image40.wmf"/><Relationship Id="rId23" Type="http://schemas.openxmlformats.org/officeDocument/2006/relationships/image" Target="../media/image25.wmf"/><Relationship Id="rId24" Type="http://schemas.openxmlformats.org/officeDocument/2006/relationships/image" Target="../media/image41.wmf"/><Relationship Id="rId25" Type="http://schemas.openxmlformats.org/officeDocument/2006/relationships/image" Target="../media/image42.wmf"/><Relationship Id="rId26" Type="http://schemas.openxmlformats.org/officeDocument/2006/relationships/image" Target="../media/image38.wmf"/><Relationship Id="rId27" Type="http://schemas.openxmlformats.org/officeDocument/2006/relationships/image" Target="../media/image43.wmf"/><Relationship Id="rId28" Type="http://schemas.openxmlformats.org/officeDocument/2006/relationships/image" Target="../media/image42.wmf"/><Relationship Id="rId29" Type="http://schemas.openxmlformats.org/officeDocument/2006/relationships/image" Target="../media/image41.wmf"/><Relationship Id="rId30" Type="http://schemas.openxmlformats.org/officeDocument/2006/relationships/image" Target="../media/image44.wmf"/><Relationship Id="rId31" Type="http://schemas.openxmlformats.org/officeDocument/2006/relationships/image" Target="../media/image43.wmf"/><Relationship Id="rId32" Type="http://schemas.openxmlformats.org/officeDocument/2006/relationships/image" Target="../media/image45.wmf"/><Relationship Id="rId33" Type="http://schemas.openxmlformats.org/officeDocument/2006/relationships/image" Target="../media/image40.wmf"/><Relationship Id="rId34" Type="http://schemas.openxmlformats.org/officeDocument/2006/relationships/image" Target="../media/image46.wmf"/><Relationship Id="rId35" Type="http://schemas.openxmlformats.org/officeDocument/2006/relationships/image" Target="../media/image40.wmf"/><Relationship Id="rId36" Type="http://schemas.openxmlformats.org/officeDocument/2006/relationships/image" Target="../media/image41.wmf"/><Relationship Id="rId37" Type="http://schemas.openxmlformats.org/officeDocument/2006/relationships/image" Target="../media/image38.wmf"/><Relationship Id="rId3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80880" y="1523880"/>
            <a:ext cx="815364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PRECALCUL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lynom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t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3520" y="1371600"/>
            <a:ext cx="784836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mediate Value 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f is a polynomial function on [a,b] such that f(a)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(b), then f(x) takes on every value between f(a) and f(b) over the interval [a,b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666880"/>
            <a:ext cx="79246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theorem allows you to connect the points found by synthetic division in order to form a smooth cur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3049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nomial Theor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3581280"/>
            <a:ext cx="83055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ot Limitation Theore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olynomial function P(x) of degree n has, </a:t>
            </a:r>
            <a:r>
              <a:rPr b="1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at mo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n distinct z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2160" y="4343400"/>
            <a:ext cx="83052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o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solution for an eq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b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agina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7760" y="4876920"/>
            <a:ext cx="61488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Zer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oot for P(x) = 0.  An x-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600200" y="5486400"/>
            <a:ext cx="4356000" cy="457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666520" y="6095880"/>
            <a:ext cx="23295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ros at 2 and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" y="1371600"/>
            <a:ext cx="79246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ctor Theore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r is a root of the polynomial equation P(x), if and only if x-r is a factor of P(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0720" y="2362320"/>
            <a:ext cx="82825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cation Theor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If f(x) is a polynomial function and f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f(b) are opposite in sign, then there is at least one real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ween a and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2880" y="3429000"/>
            <a:ext cx="46537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ot may be rational or irra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3049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nomial Theor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6840" y="3886200"/>
            <a:ext cx="7896960" cy="13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tional Roots Theor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If P(x) =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...+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s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efficients and p/q is a rational zero, then p is a factor of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q is a factor of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828800" y="4994280"/>
            <a:ext cx="476244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166400" y="5299200"/>
            <a:ext cx="67903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roots are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, b/a, b/c, b/ac, d, d/a, d/c, d/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a, 1/c, and 1/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39760" y="6095880"/>
            <a:ext cx="53503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 possible roots by synthetic di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528480" y="1447920"/>
            <a:ext cx="4961520" cy="1254600"/>
            <a:chOff x="528480" y="1447920"/>
            <a:chExt cx="4961520" cy="1254600"/>
          </a:xfrm>
        </p:grpSpPr>
        <p:sp>
          <p:nvSpPr>
            <p:cNvPr id="237" name=""/>
            <p:cNvSpPr/>
            <p:nvPr/>
          </p:nvSpPr>
          <p:spPr>
            <a:xfrm>
              <a:off x="528480" y="1447920"/>
              <a:ext cx="49615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List all possible rational roots o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676160" y="2209680"/>
              <a:ext cx="2908440" cy="492840"/>
              <a:chOff x="1676160" y="2209680"/>
              <a:chExt cx="2908440" cy="492840"/>
            </a:xfrm>
          </p:grpSpPr>
          <p:pic>
            <p:nvPicPr>
              <p:cNvPr id="2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09680" y="2209680"/>
                <a:ext cx="2374920" cy="39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>
                <a:off x="1676160" y="2209680"/>
                <a:ext cx="43236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63360" bIns="6336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.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209680" y="3048120"/>
            <a:ext cx="5473800" cy="7873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264280" y="2133720"/>
            <a:ext cx="1718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=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752480" y="4003560"/>
            <a:ext cx="4318200" cy="492840"/>
            <a:chOff x="1752480" y="4003560"/>
            <a:chExt cx="4318200" cy="492840"/>
          </a:xfrm>
        </p:grpSpPr>
        <p:sp>
          <p:nvSpPr>
            <p:cNvPr id="244" name=""/>
            <p:cNvSpPr/>
            <p:nvPr/>
          </p:nvSpPr>
          <p:spPr>
            <a:xfrm>
              <a:off x="1752480" y="4003560"/>
              <a:ext cx="4323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2209680" y="4003560"/>
              <a:ext cx="3861000" cy="39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"/>
          <p:cNvSpPr/>
          <p:nvPr/>
        </p:nvSpPr>
        <p:spPr>
          <a:xfrm>
            <a:off x="2008440" y="4492800"/>
            <a:ext cx="64540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4,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,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,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,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,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,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,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00640" y="5178600"/>
            <a:ext cx="66319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/q =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, 1/2, 1/4, 2, 3, 3/2, 3/4, 4, 5, 5/2, 5/4, 6, 1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, 15, 15/2,15/4, 20, 30,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3880" y="21276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ot Limitation Theorem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1488960"/>
            <a:ext cx="883908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pper and Lower Bound Theor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If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&gt;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all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 the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ame 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n a is an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upper bou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If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&lt;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ltern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b is a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lo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79800" y="2936880"/>
            <a:ext cx="5860440" cy="492840"/>
            <a:chOff x="379800" y="2936880"/>
            <a:chExt cx="5860440" cy="492840"/>
          </a:xfrm>
        </p:grpSpPr>
        <p:sp>
          <p:nvSpPr>
            <p:cNvPr id="251" name=""/>
            <p:cNvSpPr/>
            <p:nvPr/>
          </p:nvSpPr>
          <p:spPr>
            <a:xfrm>
              <a:off x="379800" y="2936880"/>
              <a:ext cx="14320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Sol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2159640" y="2936880"/>
              <a:ext cx="4080600" cy="39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"/>
          <p:cNvSpPr/>
          <p:nvPr/>
        </p:nvSpPr>
        <p:spPr>
          <a:xfrm>
            <a:off x="2006640" y="3470400"/>
            <a:ext cx="36493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/q =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,  1/2,  2, 5, 5/2,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3049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nomial Theor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33520" y="1270080"/>
            <a:ext cx="6015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31920" y="1631880"/>
            <a:ext cx="73468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/q =  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, 1/2, 1/4, 2, 3, 3/2, 3/4, 4, 5, 5/2, 5/4, 6, 1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, 15, 15/2,15/4, 20, 30,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05280" y="2413080"/>
            <a:ext cx="6095520" cy="3418920"/>
            <a:chOff x="305280" y="2413080"/>
            <a:chExt cx="6095520" cy="3418920"/>
          </a:xfrm>
        </p:grpSpPr>
        <p:sp>
          <p:nvSpPr>
            <p:cNvPr id="258" name=""/>
            <p:cNvSpPr/>
            <p:nvPr/>
          </p:nvSpPr>
          <p:spPr>
            <a:xfrm>
              <a:off x="1219320" y="2793960"/>
              <a:ext cx="518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          -28      97    -456  23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305280" y="2413080"/>
              <a:ext cx="5037840" cy="3418920"/>
              <a:chOff x="305280" y="2413080"/>
              <a:chExt cx="5037840" cy="3418920"/>
            </a:xfrm>
          </p:grpSpPr>
          <p:sp>
            <p:nvSpPr>
              <p:cNvPr id="260" name=""/>
              <p:cNvSpPr/>
              <p:nvPr/>
            </p:nvSpPr>
            <p:spPr>
              <a:xfrm>
                <a:off x="305280" y="2413080"/>
                <a:ext cx="5037840" cy="34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63360" bIns="63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-8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-43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29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0880" y="2793960"/>
                <a:ext cx="495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066680" y="2489400"/>
                <a:ext cx="0" cy="31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3" name=""/>
          <p:cNvSpPr/>
          <p:nvPr/>
        </p:nvSpPr>
        <p:spPr>
          <a:xfrm>
            <a:off x="1217520" y="5308560"/>
            <a:ext cx="32958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4647960" y="5689080"/>
            <a:ext cx="4065120" cy="780480"/>
            <a:chOff x="4647960" y="5689080"/>
            <a:chExt cx="4065120" cy="780480"/>
          </a:xfrm>
        </p:grpSpPr>
        <p:cxnSp>
          <p:nvCxnSpPr>
            <p:cNvPr id="265" name=""/>
            <p:cNvCxnSpPr>
              <a:stCxn id="263" idx="3"/>
            </p:cNvCxnSpPr>
            <p:nvPr/>
          </p:nvCxnSpPr>
          <p:spPr>
            <a:xfrm>
              <a:off x="4647960" y="5689080"/>
              <a:ext cx="864360" cy="5929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587920" y="5976720"/>
              <a:ext cx="31251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actorable quadra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528120" y="5994360"/>
            <a:ext cx="36050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: -1, 4, -5/2, 3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066680" y="3124080"/>
            <a:ext cx="7925040" cy="2288520"/>
            <a:chOff x="1066680" y="3124080"/>
            <a:chExt cx="7925040" cy="2288520"/>
          </a:xfrm>
        </p:grpSpPr>
        <p:sp>
          <p:nvSpPr>
            <p:cNvPr id="269" name=""/>
            <p:cNvSpPr/>
            <p:nvPr/>
          </p:nvSpPr>
          <p:spPr>
            <a:xfrm>
              <a:off x="1218960" y="3902040"/>
              <a:ext cx="40395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-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3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6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42000" y="3556080"/>
              <a:ext cx="4161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1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1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51     -4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19320" y="4241880"/>
              <a:ext cx="33109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-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4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18240" y="3124080"/>
              <a:ext cx="41598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1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22    1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19320" y="4622760"/>
              <a:ext cx="33109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4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10440" y="4013280"/>
              <a:ext cx="17049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1 is a z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1280" y="3124080"/>
              <a:ext cx="28904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3 is a lower b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66680" y="396252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320040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7242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50292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10080" y="365760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oot between -2 &amp; 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495288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            4     -31      -6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66680" y="54100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66680" y="358128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5" name=""/>
          <p:cNvGraphicFramePr/>
          <p:nvPr/>
        </p:nvGraphicFramePr>
        <p:xfrm>
          <a:off x="6019920" y="6451560"/>
          <a:ext cx="20192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6451560"/>
                    <a:ext cx="20192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1219320" y="1257480"/>
          <a:ext cx="401292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257480"/>
                    <a:ext cx="40129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670040" y="380880"/>
            <a:ext cx="5239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ing Rationa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2800" y="1219320"/>
            <a:ext cx="84452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ympto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A line which a graph approaches but never tou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29400" y="1828800"/>
            <a:ext cx="366336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: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rizontal: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lique or s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3429000"/>
            <a:ext cx="8229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marL="2679840" indent="-26798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tical asympto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Located anywhere the x-value makes the denominator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29920" y="4343400"/>
            <a:ext cx="4308840" cy="582480"/>
            <a:chOff x="529920" y="4343400"/>
            <a:chExt cx="4308840" cy="582480"/>
          </a:xfrm>
        </p:grpSpPr>
        <p:sp>
          <p:nvSpPr>
            <p:cNvPr id="294" name=""/>
            <p:cNvSpPr/>
            <p:nvPr/>
          </p:nvSpPr>
          <p:spPr>
            <a:xfrm>
              <a:off x="529920" y="4343400"/>
              <a:ext cx="36633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rizontal Asympto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  f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5" name=""/>
            <p:cNvGraphicFramePr/>
            <p:nvPr/>
          </p:nvGraphicFramePr>
          <p:xfrm>
            <a:off x="4267080" y="4343400"/>
            <a:ext cx="571680" cy="58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67080" y="4343400"/>
                      <a:ext cx="571680" cy="58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7" name=""/>
          <p:cNvSpPr/>
          <p:nvPr/>
        </p:nvSpPr>
        <p:spPr>
          <a:xfrm>
            <a:off x="685800" y="4952880"/>
            <a:ext cx="8458200" cy="15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marL="853920" indent="-85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degree of P(x) is less than D(x) then y=0 is the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3920" indent="-85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3920" indent="-85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degree of P(x) is equal to D(x), then y equals the ratio of the lead coefficients is the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457200"/>
            <a:ext cx="868680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marL="2460600" indent="-2460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lant asympto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Degree of P(x) exceeds D(x) by one.  Divide and the quotient without the remainder is the slant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5791320"/>
            <a:ext cx="1270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752480" y="1828800"/>
          <a:ext cx="462276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828800"/>
                    <a:ext cx="462276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2" name=""/>
          <p:cNvGrpSpPr/>
          <p:nvPr/>
        </p:nvGrpSpPr>
        <p:grpSpPr>
          <a:xfrm>
            <a:off x="1673640" y="3048120"/>
            <a:ext cx="5146200" cy="722160"/>
            <a:chOff x="1673640" y="3048120"/>
            <a:chExt cx="5146200" cy="722160"/>
          </a:xfrm>
        </p:grpSpPr>
        <p:graphicFrame>
          <p:nvGraphicFramePr>
            <p:cNvPr id="303" name=""/>
            <p:cNvGraphicFramePr/>
            <p:nvPr/>
          </p:nvGraphicFramePr>
          <p:xfrm>
            <a:off x="5562720" y="3048120"/>
            <a:ext cx="1257120" cy="72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3048120"/>
                      <a:ext cx="1257120" cy="72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1673640" y="3124080"/>
              <a:ext cx="38491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horizontal asymptote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533520" y="4191120"/>
            <a:ext cx="8610480" cy="15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marL="2801880" indent="-28018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le in the gra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:  If there is a common factor in the numerator and denominator, the function will not exist at the x which makes the denominator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596520" y="380880"/>
            <a:ext cx="3022920" cy="787680"/>
            <a:chOff x="596520" y="380880"/>
            <a:chExt cx="3022920" cy="787680"/>
          </a:xfrm>
        </p:grpSpPr>
        <p:sp>
          <p:nvSpPr>
            <p:cNvPr id="308" name=""/>
            <p:cNvSpPr/>
            <p:nvPr/>
          </p:nvSpPr>
          <p:spPr>
            <a:xfrm>
              <a:off x="596520" y="488880"/>
              <a:ext cx="13726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Fin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9" name=""/>
            <p:cNvGraphicFramePr/>
            <p:nvPr/>
          </p:nvGraphicFramePr>
          <p:xfrm>
            <a:off x="1981080" y="380880"/>
            <a:ext cx="1638360" cy="78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380880"/>
                      <a:ext cx="163836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1" name=""/>
          <p:cNvSpPr/>
          <p:nvPr/>
        </p:nvSpPr>
        <p:spPr>
          <a:xfrm>
            <a:off x="5258520" y="533520"/>
            <a:ext cx="9655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33160" y="1600200"/>
            <a:ext cx="3899160" cy="965160"/>
            <a:chOff x="533160" y="1600200"/>
            <a:chExt cx="3899160" cy="965160"/>
          </a:xfrm>
        </p:grpSpPr>
        <p:sp>
          <p:nvSpPr>
            <p:cNvPr id="313" name=""/>
            <p:cNvSpPr/>
            <p:nvPr/>
          </p:nvSpPr>
          <p:spPr>
            <a:xfrm>
              <a:off x="533160" y="1828800"/>
              <a:ext cx="14486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Find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4" name=""/>
            <p:cNvGraphicFramePr/>
            <p:nvPr/>
          </p:nvGraphicFramePr>
          <p:xfrm>
            <a:off x="1905120" y="1600200"/>
            <a:ext cx="2527200" cy="965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1600200"/>
                      <a:ext cx="252720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6" name=""/>
          <p:cNvSpPr/>
          <p:nvPr/>
        </p:nvSpPr>
        <p:spPr>
          <a:xfrm>
            <a:off x="5258520" y="1828800"/>
            <a:ext cx="9655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: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33160" y="2971800"/>
            <a:ext cx="3124440" cy="811080"/>
            <a:chOff x="533160" y="2971800"/>
            <a:chExt cx="3124440" cy="811080"/>
          </a:xfrm>
        </p:grpSpPr>
        <p:sp>
          <p:nvSpPr>
            <p:cNvPr id="318" name=""/>
            <p:cNvSpPr/>
            <p:nvPr/>
          </p:nvSpPr>
          <p:spPr>
            <a:xfrm>
              <a:off x="533160" y="3124080"/>
              <a:ext cx="14486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Find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9" name=""/>
            <p:cNvGraphicFramePr/>
            <p:nvPr/>
          </p:nvGraphicFramePr>
          <p:xfrm>
            <a:off x="1905120" y="2971800"/>
            <a:ext cx="1752480" cy="81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05120" y="2971800"/>
                      <a:ext cx="1752480" cy="81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1" name=""/>
          <p:cNvSpPr/>
          <p:nvPr/>
        </p:nvSpPr>
        <p:spPr>
          <a:xfrm>
            <a:off x="4878720" y="3124080"/>
            <a:ext cx="15310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: D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09120" y="4191120"/>
            <a:ext cx="3200760" cy="811080"/>
            <a:chOff x="609120" y="4191120"/>
            <a:chExt cx="3200760" cy="811080"/>
          </a:xfrm>
        </p:grpSpPr>
        <p:graphicFrame>
          <p:nvGraphicFramePr>
            <p:cNvPr id="323" name=""/>
            <p:cNvGraphicFramePr/>
            <p:nvPr/>
          </p:nvGraphicFramePr>
          <p:xfrm>
            <a:off x="2057400" y="4191120"/>
            <a:ext cx="1752480" cy="811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57400" y="4191120"/>
                      <a:ext cx="1752480" cy="81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5" name=""/>
            <p:cNvSpPr/>
            <p:nvPr/>
          </p:nvSpPr>
          <p:spPr>
            <a:xfrm>
              <a:off x="609120" y="4419720"/>
              <a:ext cx="13726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Fin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952880" y="4343400"/>
            <a:ext cx="12034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: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670040" y="228600"/>
            <a:ext cx="5239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ing Rationa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3640" y="990720"/>
            <a:ext cx="5711400" cy="34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Find asympt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Find inter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Does graph cross horizontal asympto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Check 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Graph selected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124800" y="228600"/>
            <a:ext cx="203076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72960" y="1523880"/>
            <a:ext cx="8244000" cy="1483560"/>
            <a:chOff x="372960" y="1523880"/>
            <a:chExt cx="8244000" cy="1483560"/>
          </a:xfrm>
        </p:grpSpPr>
        <p:sp>
          <p:nvSpPr>
            <p:cNvPr id="42" name=""/>
            <p:cNvSpPr/>
            <p:nvPr/>
          </p:nvSpPr>
          <p:spPr>
            <a:xfrm>
              <a:off x="372960" y="1523880"/>
              <a:ext cx="8244000" cy="98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.  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mmon Factor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Using the distributive property 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parate common factor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371240" y="2514600"/>
              <a:ext cx="6609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2209680" y="2590560"/>
              <a:ext cx="3162240" cy="34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"/>
          <p:cNvSpPr/>
          <p:nvPr/>
        </p:nvSpPr>
        <p:spPr>
          <a:xfrm>
            <a:off x="457200" y="3733920"/>
            <a:ext cx="1270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74760" y="2819520"/>
            <a:ext cx="4641480" cy="1101960"/>
            <a:chOff x="374760" y="2819520"/>
            <a:chExt cx="4641480" cy="1101960"/>
          </a:xfrm>
        </p:grpSpPr>
        <p:sp>
          <p:nvSpPr>
            <p:cNvPr id="47" name=""/>
            <p:cNvSpPr/>
            <p:nvPr/>
          </p:nvSpPr>
          <p:spPr>
            <a:xfrm>
              <a:off x="374760" y="2819520"/>
              <a:ext cx="45651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  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ifference of square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2133360" y="3352680"/>
              <a:ext cx="2882880" cy="45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"/>
          <p:cNvGrpSpPr/>
          <p:nvPr/>
        </p:nvGrpSpPr>
        <p:grpSpPr>
          <a:xfrm>
            <a:off x="375480" y="3886200"/>
            <a:ext cx="5339160" cy="1101960"/>
            <a:chOff x="375480" y="3886200"/>
            <a:chExt cx="5339160" cy="1101960"/>
          </a:xfrm>
        </p:grpSpPr>
        <p:sp>
          <p:nvSpPr>
            <p:cNvPr id="50" name=""/>
            <p:cNvSpPr/>
            <p:nvPr/>
          </p:nvSpPr>
          <p:spPr>
            <a:xfrm>
              <a:off x="375480" y="3886200"/>
              <a:ext cx="41004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.  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ifference of cube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904760" y="4495680"/>
              <a:ext cx="3809880" cy="48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377280" y="5105520"/>
            <a:ext cx="5413680" cy="1101960"/>
            <a:chOff x="377280" y="5105520"/>
            <a:chExt cx="5413680" cy="1101960"/>
          </a:xfrm>
        </p:grpSpPr>
        <p:sp>
          <p:nvSpPr>
            <p:cNvPr id="53" name=""/>
            <p:cNvSpPr/>
            <p:nvPr/>
          </p:nvSpPr>
          <p:spPr>
            <a:xfrm>
              <a:off x="377280" y="5105520"/>
              <a:ext cx="29775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. 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um of cube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1981080" y="5638680"/>
              <a:ext cx="380988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2800" y="457200"/>
            <a:ext cx="16272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209680" y="380880"/>
          <a:ext cx="240048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80880"/>
                    <a:ext cx="240048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1218240" y="1447920"/>
            <a:ext cx="5078880" cy="23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Asymptotes: x = 2, x = -1, and y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Intercepts: y-int=-5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-int   D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68280" y="7920"/>
          <a:ext cx="176400" cy="2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8280" y="7920"/>
                    <a:ext cx="1764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873080" y="3124080"/>
          <a:ext cx="2006640" cy="86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3080" y="3124080"/>
                    <a:ext cx="2006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1917720" y="4114800"/>
          <a:ext cx="323856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17720" y="4114800"/>
                    <a:ext cx="32385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2558880" y="4641840"/>
          <a:ext cx="2032200" cy="29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8880" y="4641840"/>
                    <a:ext cx="20322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276720" y="5105520"/>
          <a:ext cx="64764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510552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368280" y="6480"/>
          <a:ext cx="17784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8280" y="6480"/>
                    <a:ext cx="1778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308240" y="441360"/>
            <a:ext cx="70815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onential and Logarithmic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6920" y="1066680"/>
            <a:ext cx="77457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nscendental Func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cannot be derived from si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gebraic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6560" y="2046240"/>
            <a:ext cx="7238520" cy="15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nential:  function where a finite number is rai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the power of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(x) = 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is the exponent and b i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5322960"/>
            <a:ext cx="1270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6800" y="3875040"/>
            <a:ext cx="78022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onential Property of Equa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If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b</a:t>
            </a:r>
            <a:r>
              <a:rPr b="1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 x =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4560840"/>
            <a:ext cx="28720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tional Expon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733920" y="4332240"/>
          <a:ext cx="457200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4332240"/>
                    <a:ext cx="45720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456840" y="5322960"/>
            <a:ext cx="26694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s of ex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505320" y="5398920"/>
          <a:ext cx="736560" cy="3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5398920"/>
                    <a:ext cx="73656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3505320" y="5703840"/>
          <a:ext cx="113004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5703840"/>
                    <a:ext cx="11300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990720" y="1219320"/>
            <a:ext cx="7162560" cy="4305240"/>
            <a:chOff x="990720" y="1219320"/>
            <a:chExt cx="7162560" cy="4305240"/>
          </a:xfrm>
        </p:grpSpPr>
        <p:pic>
          <p:nvPicPr>
            <p:cNvPr id="359" name="" descr=""/>
            <p:cNvPicPr/>
            <p:nvPr/>
          </p:nvPicPr>
          <p:blipFill>
            <a:blip r:embed="rId1"/>
            <a:stretch/>
          </p:blipFill>
          <p:spPr>
            <a:xfrm>
              <a:off x="2514600" y="1219320"/>
              <a:ext cx="5638680" cy="3833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aphicFrame>
          <p:nvGraphicFramePr>
            <p:cNvPr id="360" name=""/>
            <p:cNvGraphicFramePr/>
            <p:nvPr/>
          </p:nvGraphicFramePr>
          <p:xfrm>
            <a:off x="990720" y="2133720"/>
            <a:ext cx="1168200" cy="3390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90720" y="2133720"/>
                      <a:ext cx="1168200" cy="33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2" name=""/>
          <p:cNvSpPr/>
          <p:nvPr/>
        </p:nvSpPr>
        <p:spPr>
          <a:xfrm>
            <a:off x="532080" y="380880"/>
            <a:ext cx="45594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s of Exponential F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9280" y="1143000"/>
            <a:ext cx="14565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y =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901800" y="1219320"/>
            <a:ext cx="7251480" cy="3924360"/>
            <a:chOff x="901800" y="1219320"/>
            <a:chExt cx="7251480" cy="3924360"/>
          </a:xfrm>
        </p:grpSpPr>
        <p:pic>
          <p:nvPicPr>
            <p:cNvPr id="365" name="" descr=""/>
            <p:cNvPicPr/>
            <p:nvPr/>
          </p:nvPicPr>
          <p:blipFill>
            <a:blip r:embed="rId4"/>
            <a:stretch/>
          </p:blipFill>
          <p:spPr>
            <a:xfrm>
              <a:off x="2514600" y="1219320"/>
              <a:ext cx="5638680" cy="3833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aphicFrame>
          <p:nvGraphicFramePr>
            <p:cNvPr id="366" name=""/>
            <p:cNvGraphicFramePr/>
            <p:nvPr/>
          </p:nvGraphicFramePr>
          <p:xfrm>
            <a:off x="901800" y="1612800"/>
            <a:ext cx="1168200" cy="353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01800" y="1612800"/>
                      <a:ext cx="1168200" cy="353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68" name="" descr=""/>
          <p:cNvPicPr/>
          <p:nvPr/>
        </p:nvPicPr>
        <p:blipFill>
          <a:blip r:embed="rId7"/>
          <a:stretch/>
        </p:blipFill>
        <p:spPr>
          <a:xfrm>
            <a:off x="2514600" y="1219320"/>
            <a:ext cx="5638680" cy="38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9" name="" descr=""/>
          <p:cNvPicPr/>
          <p:nvPr/>
        </p:nvPicPr>
        <p:blipFill>
          <a:blip r:embed="rId8"/>
          <a:stretch/>
        </p:blipFill>
        <p:spPr>
          <a:xfrm>
            <a:off x="2514600" y="1219320"/>
            <a:ext cx="5638680" cy="38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0" name=""/>
          <p:cNvSpPr/>
          <p:nvPr/>
        </p:nvSpPr>
        <p:spPr>
          <a:xfrm>
            <a:off x="538200" y="1676520"/>
            <a:ext cx="1898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y = (1/2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4" dur="1" fill="hold"/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85440" y="457200"/>
            <a:ext cx="6609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371600" y="533520"/>
          <a:ext cx="133344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33520"/>
                    <a:ext cx="1333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62120" y="990720"/>
            <a:ext cx="7848360" cy="533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533520"/>
            <a:ext cx="584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295280" y="533520"/>
          <a:ext cx="14353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533520"/>
                    <a:ext cx="1435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990720" y="1219320"/>
            <a:ext cx="6933960" cy="471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85800" y="533520"/>
            <a:ext cx="584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371600" y="609480"/>
          <a:ext cx="16128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609480"/>
                    <a:ext cx="1612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838080" y="1295280"/>
            <a:ext cx="7162920" cy="487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33160" y="457200"/>
            <a:ext cx="584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143000" y="457200"/>
          <a:ext cx="15112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1511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85800" y="1143000"/>
            <a:ext cx="7696080" cy="523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387" name=""/>
          <p:cNvGraphicFramePr/>
          <p:nvPr/>
        </p:nvGraphicFramePr>
        <p:xfrm>
          <a:off x="2743200" y="457200"/>
          <a:ext cx="152388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457200"/>
                    <a:ext cx="1523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001000" cy="544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0" name=""/>
          <p:cNvSpPr/>
          <p:nvPr/>
        </p:nvSpPr>
        <p:spPr>
          <a:xfrm>
            <a:off x="457200" y="380880"/>
            <a:ext cx="584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066680" y="380880"/>
          <a:ext cx="1282680" cy="48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380880"/>
                    <a:ext cx="12826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533520" y="990720"/>
            <a:ext cx="8001000" cy="544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3160" y="380880"/>
            <a:ext cx="584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219320" y="380880"/>
          <a:ext cx="142236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0880"/>
                    <a:ext cx="14223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609480" y="1066680"/>
            <a:ext cx="8001000" cy="544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57200" y="457200"/>
            <a:ext cx="584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143000" y="380880"/>
          <a:ext cx="1498680" cy="5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880"/>
                    <a:ext cx="149868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533520" y="1066680"/>
            <a:ext cx="7924680" cy="538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57640" y="228600"/>
            <a:ext cx="37576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Continu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75840" y="1066680"/>
            <a:ext cx="4462920" cy="1101960"/>
            <a:chOff x="375840" y="1066680"/>
            <a:chExt cx="4462920" cy="1101960"/>
          </a:xfrm>
        </p:grpSpPr>
        <p:sp>
          <p:nvSpPr>
            <p:cNvPr id="57" name=""/>
            <p:cNvSpPr/>
            <p:nvPr/>
          </p:nvSpPr>
          <p:spPr>
            <a:xfrm>
              <a:off x="375840" y="1066680"/>
              <a:ext cx="346644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.  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erfect Square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905120" y="1600200"/>
              <a:ext cx="293364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375840" y="5181480"/>
            <a:ext cx="7206120" cy="1101960"/>
            <a:chOff x="375840" y="5181480"/>
            <a:chExt cx="7206120" cy="1101960"/>
          </a:xfrm>
        </p:grpSpPr>
        <p:sp>
          <p:nvSpPr>
            <p:cNvPr id="60" name=""/>
            <p:cNvSpPr/>
            <p:nvPr/>
          </p:nvSpPr>
          <p:spPr>
            <a:xfrm>
              <a:off x="375840" y="5181480"/>
              <a:ext cx="385992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.  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inomial Produc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1981080" y="5714640"/>
              <a:ext cx="560088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30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181480" y="1600200"/>
            <a:ext cx="2934000" cy="45720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376560" y="2057400"/>
            <a:ext cx="5135400" cy="1447920"/>
            <a:chOff x="376560" y="2057400"/>
            <a:chExt cx="5135400" cy="1447920"/>
          </a:xfrm>
        </p:grpSpPr>
        <p:sp>
          <p:nvSpPr>
            <p:cNvPr id="65" name=""/>
            <p:cNvSpPr/>
            <p:nvPr/>
          </p:nvSpPr>
          <p:spPr>
            <a:xfrm>
              <a:off x="376560" y="2057400"/>
              <a:ext cx="30474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6.  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erfect Cube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1600200" y="2590920"/>
              <a:ext cx="39117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1600200" y="3048120"/>
              <a:ext cx="38988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453240" y="3276720"/>
            <a:ext cx="6709680" cy="1981080"/>
            <a:chOff x="453240" y="3276720"/>
            <a:chExt cx="6709680" cy="1981080"/>
          </a:xfrm>
        </p:grpSpPr>
        <p:sp>
          <p:nvSpPr>
            <p:cNvPr id="69" name=""/>
            <p:cNvSpPr/>
            <p:nvPr/>
          </p:nvSpPr>
          <p:spPr>
            <a:xfrm>
              <a:off x="453240" y="3276720"/>
              <a:ext cx="24699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7.  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rouping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2133720" y="3886200"/>
              <a:ext cx="491472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4419720" y="4343400"/>
              <a:ext cx="274320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205360" y="304920"/>
            <a:ext cx="41187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garithmic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248160" cy="42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843840" y="1066680"/>
            <a:ext cx="25110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2x  and y=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685440" y="533520"/>
            <a:ext cx="2934000" cy="492840"/>
            <a:chOff x="685440" y="533520"/>
            <a:chExt cx="2934000" cy="492840"/>
          </a:xfrm>
        </p:grpSpPr>
        <p:sp>
          <p:nvSpPr>
            <p:cNvPr id="406" name=""/>
            <p:cNvSpPr/>
            <p:nvPr/>
          </p:nvSpPr>
          <p:spPr>
            <a:xfrm>
              <a:off x="685440" y="533520"/>
              <a:ext cx="15249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7" name=""/>
            <p:cNvGraphicFramePr/>
            <p:nvPr/>
          </p:nvGraphicFramePr>
          <p:xfrm>
            <a:off x="2362320" y="609480"/>
            <a:ext cx="1257120" cy="38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2320" y="609480"/>
                      <a:ext cx="125712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09" name=""/>
          <p:cNvGraphicFramePr/>
          <p:nvPr/>
        </p:nvGraphicFramePr>
        <p:xfrm>
          <a:off x="990720" y="1143000"/>
          <a:ext cx="2120760" cy="23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143000"/>
                    <a:ext cx="212076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1" name="" descr=""/>
          <p:cNvPicPr/>
          <p:nvPr/>
        </p:nvPicPr>
        <p:blipFill>
          <a:blip r:embed="rId5"/>
          <a:stretch/>
        </p:blipFill>
        <p:spPr>
          <a:xfrm>
            <a:off x="3352680" y="1219320"/>
            <a:ext cx="5410440" cy="367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685440" y="533520"/>
            <a:ext cx="3530880" cy="492840"/>
            <a:chOff x="685440" y="533520"/>
            <a:chExt cx="3530880" cy="492840"/>
          </a:xfrm>
        </p:grpSpPr>
        <p:sp>
          <p:nvSpPr>
            <p:cNvPr id="413" name=""/>
            <p:cNvSpPr/>
            <p:nvPr/>
          </p:nvSpPr>
          <p:spPr>
            <a:xfrm>
              <a:off x="685440" y="533520"/>
              <a:ext cx="15249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4" name=""/>
            <p:cNvGraphicFramePr/>
            <p:nvPr/>
          </p:nvGraphicFramePr>
          <p:xfrm>
            <a:off x="2362320" y="609480"/>
            <a:ext cx="1854000" cy="38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2320" y="609480"/>
                      <a:ext cx="18540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914400" y="1219320"/>
            <a:ext cx="6934320" cy="471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685440" y="533520"/>
            <a:ext cx="3530880" cy="492840"/>
            <a:chOff x="685440" y="533520"/>
            <a:chExt cx="3530880" cy="492840"/>
          </a:xfrm>
        </p:grpSpPr>
        <p:sp>
          <p:nvSpPr>
            <p:cNvPr id="418" name=""/>
            <p:cNvSpPr/>
            <p:nvPr/>
          </p:nvSpPr>
          <p:spPr>
            <a:xfrm>
              <a:off x="685440" y="533520"/>
              <a:ext cx="15249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9" name=""/>
            <p:cNvGraphicFramePr/>
            <p:nvPr/>
          </p:nvGraphicFramePr>
          <p:xfrm>
            <a:off x="2362320" y="609480"/>
            <a:ext cx="1854000" cy="38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2320" y="609480"/>
                      <a:ext cx="18540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762120" y="1143000"/>
            <a:ext cx="761976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685440" y="533520"/>
            <a:ext cx="3403800" cy="492840"/>
            <a:chOff x="685440" y="533520"/>
            <a:chExt cx="3403800" cy="492840"/>
          </a:xfrm>
        </p:grpSpPr>
        <p:sp>
          <p:nvSpPr>
            <p:cNvPr id="423" name=""/>
            <p:cNvSpPr/>
            <p:nvPr/>
          </p:nvSpPr>
          <p:spPr>
            <a:xfrm>
              <a:off x="685440" y="533520"/>
              <a:ext cx="15249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4" name=""/>
            <p:cNvGraphicFramePr/>
            <p:nvPr/>
          </p:nvGraphicFramePr>
          <p:xfrm>
            <a:off x="2489040" y="609480"/>
            <a:ext cx="1600200" cy="38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89040" y="609480"/>
                      <a:ext cx="16002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838080" y="1295280"/>
            <a:ext cx="7543800" cy="512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685440" y="533520"/>
            <a:ext cx="3486600" cy="492840"/>
            <a:chOff x="685440" y="533520"/>
            <a:chExt cx="3486600" cy="492840"/>
          </a:xfrm>
        </p:grpSpPr>
        <p:sp>
          <p:nvSpPr>
            <p:cNvPr id="428" name=""/>
            <p:cNvSpPr/>
            <p:nvPr/>
          </p:nvSpPr>
          <p:spPr>
            <a:xfrm>
              <a:off x="685440" y="533520"/>
              <a:ext cx="15249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9" name=""/>
            <p:cNvGraphicFramePr/>
            <p:nvPr/>
          </p:nvGraphicFramePr>
          <p:xfrm>
            <a:off x="2406600" y="609480"/>
            <a:ext cx="1765440" cy="38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06600" y="609480"/>
                      <a:ext cx="176544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838080" y="1143000"/>
            <a:ext cx="7543800" cy="512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685440" y="533520"/>
            <a:ext cx="3499200" cy="492840"/>
            <a:chOff x="685440" y="533520"/>
            <a:chExt cx="3499200" cy="492840"/>
          </a:xfrm>
        </p:grpSpPr>
        <p:sp>
          <p:nvSpPr>
            <p:cNvPr id="433" name=""/>
            <p:cNvSpPr/>
            <p:nvPr/>
          </p:nvSpPr>
          <p:spPr>
            <a:xfrm>
              <a:off x="685440" y="533520"/>
              <a:ext cx="15249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34" name=""/>
            <p:cNvGraphicFramePr/>
            <p:nvPr/>
          </p:nvGraphicFramePr>
          <p:xfrm>
            <a:off x="2394000" y="609480"/>
            <a:ext cx="1790640" cy="38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94000" y="609480"/>
                      <a:ext cx="179064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914400" y="1143000"/>
            <a:ext cx="7467480" cy="507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533160" y="304920"/>
            <a:ext cx="4318200" cy="492840"/>
            <a:chOff x="533160" y="304920"/>
            <a:chExt cx="4318200" cy="492840"/>
          </a:xfrm>
        </p:grpSpPr>
        <p:sp>
          <p:nvSpPr>
            <p:cNvPr id="438" name=""/>
            <p:cNvSpPr/>
            <p:nvPr/>
          </p:nvSpPr>
          <p:spPr>
            <a:xfrm>
              <a:off x="533160" y="304920"/>
              <a:ext cx="15249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39" name=""/>
            <p:cNvGraphicFramePr/>
            <p:nvPr/>
          </p:nvGraphicFramePr>
          <p:xfrm>
            <a:off x="2057400" y="380880"/>
            <a:ext cx="2793960" cy="38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380880"/>
                      <a:ext cx="279396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3733920" y="914400"/>
            <a:ext cx="5029200" cy="34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442" name=""/>
          <p:cNvGraphicFramePr/>
          <p:nvPr/>
        </p:nvGraphicFramePr>
        <p:xfrm>
          <a:off x="609480" y="914400"/>
          <a:ext cx="2845080" cy="415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914400"/>
                    <a:ext cx="284508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380880" y="533520"/>
            <a:ext cx="8305920" cy="3574800"/>
            <a:chOff x="380880" y="533520"/>
            <a:chExt cx="8305920" cy="3574800"/>
          </a:xfrm>
        </p:grpSpPr>
        <p:graphicFrame>
          <p:nvGraphicFramePr>
            <p:cNvPr id="445" name=""/>
            <p:cNvGraphicFramePr/>
            <p:nvPr/>
          </p:nvGraphicFramePr>
          <p:xfrm>
            <a:off x="380880" y="685800"/>
            <a:ext cx="1791000" cy="40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685800"/>
                      <a:ext cx="1791000" cy="4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47" name="" descr=""/>
            <p:cNvPicPr/>
            <p:nvPr/>
          </p:nvPicPr>
          <p:blipFill>
            <a:blip r:embed="rId3"/>
            <a:stretch/>
          </p:blipFill>
          <p:spPr>
            <a:xfrm>
              <a:off x="3429000" y="533520"/>
              <a:ext cx="5257800" cy="357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448" name=""/>
          <p:cNvGrpSpPr/>
          <p:nvPr/>
        </p:nvGrpSpPr>
        <p:grpSpPr>
          <a:xfrm>
            <a:off x="380880" y="533520"/>
            <a:ext cx="8305920" cy="3574800"/>
            <a:chOff x="380880" y="533520"/>
            <a:chExt cx="8305920" cy="3574800"/>
          </a:xfrm>
        </p:grpSpPr>
        <p:graphicFrame>
          <p:nvGraphicFramePr>
            <p:cNvPr id="449" name=""/>
            <p:cNvGraphicFramePr/>
            <p:nvPr/>
          </p:nvGraphicFramePr>
          <p:xfrm>
            <a:off x="380880" y="1295280"/>
            <a:ext cx="2222640" cy="405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5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880" y="1295280"/>
                      <a:ext cx="2222640" cy="4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1" name=""/>
            <p:cNvGraphicFramePr/>
            <p:nvPr/>
          </p:nvGraphicFramePr>
          <p:xfrm>
            <a:off x="609480" y="1752480"/>
            <a:ext cx="1955880" cy="480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5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09480" y="1752480"/>
                      <a:ext cx="195588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53" name="" descr=""/>
            <p:cNvPicPr/>
            <p:nvPr/>
          </p:nvPicPr>
          <p:blipFill>
            <a:blip r:embed="rId8"/>
            <a:stretch/>
          </p:blipFill>
          <p:spPr>
            <a:xfrm>
              <a:off x="3429000" y="533520"/>
              <a:ext cx="5257800" cy="357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454" name=""/>
          <p:cNvGrpSpPr/>
          <p:nvPr/>
        </p:nvGrpSpPr>
        <p:grpSpPr>
          <a:xfrm>
            <a:off x="276120" y="533520"/>
            <a:ext cx="8410680" cy="3574800"/>
            <a:chOff x="276120" y="533520"/>
            <a:chExt cx="8410680" cy="3574800"/>
          </a:xfrm>
        </p:grpSpPr>
        <p:graphicFrame>
          <p:nvGraphicFramePr>
            <p:cNvPr id="455" name=""/>
            <p:cNvGraphicFramePr/>
            <p:nvPr/>
          </p:nvGraphicFramePr>
          <p:xfrm>
            <a:off x="276120" y="2362320"/>
            <a:ext cx="2495520" cy="415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5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76120" y="2362320"/>
                      <a:ext cx="249552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57" name="" descr=""/>
            <p:cNvPicPr/>
            <p:nvPr/>
          </p:nvPicPr>
          <p:blipFill>
            <a:blip r:embed="rId11"/>
            <a:stretch/>
          </p:blipFill>
          <p:spPr>
            <a:xfrm>
              <a:off x="3429000" y="533520"/>
              <a:ext cx="5257800" cy="357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458" name=""/>
          <p:cNvGrpSpPr/>
          <p:nvPr/>
        </p:nvGrpSpPr>
        <p:grpSpPr>
          <a:xfrm>
            <a:off x="304920" y="533520"/>
            <a:ext cx="8381880" cy="3574800"/>
            <a:chOff x="304920" y="533520"/>
            <a:chExt cx="8381880" cy="3574800"/>
          </a:xfrm>
        </p:grpSpPr>
        <p:graphicFrame>
          <p:nvGraphicFramePr>
            <p:cNvPr id="459" name=""/>
            <p:cNvGraphicFramePr/>
            <p:nvPr/>
          </p:nvGraphicFramePr>
          <p:xfrm>
            <a:off x="304920" y="2971800"/>
            <a:ext cx="2939760" cy="4158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46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04920" y="2971800"/>
                      <a:ext cx="293976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61" name="" descr=""/>
            <p:cNvPicPr/>
            <p:nvPr/>
          </p:nvPicPr>
          <p:blipFill>
            <a:blip r:embed="rId14"/>
            <a:stretch/>
          </p:blipFill>
          <p:spPr>
            <a:xfrm>
              <a:off x="3429000" y="533520"/>
              <a:ext cx="5257800" cy="357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1760" y="1676520"/>
            <a:ext cx="584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752480" y="1905120"/>
            <a:ext cx="4038840" cy="392040"/>
            <a:chOff x="1752480" y="1905120"/>
            <a:chExt cx="4038840" cy="39204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1752480" y="1981440"/>
              <a:ext cx="5590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590920" y="1905120"/>
              <a:ext cx="2946240" cy="392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"/>
            <p:cNvGrpSpPr/>
            <p:nvPr/>
          </p:nvGrpSpPr>
          <p:grpSpPr>
            <a:xfrm>
              <a:off x="2590920" y="1905120"/>
              <a:ext cx="3200400" cy="380880"/>
              <a:chOff x="2590920" y="1905120"/>
              <a:chExt cx="3200400" cy="380880"/>
            </a:xfrm>
          </p:grpSpPr>
          <p:sp>
            <p:nvSpPr>
              <p:cNvPr id="77" name=""/>
              <p:cNvSpPr/>
              <p:nvPr/>
            </p:nvSpPr>
            <p:spPr>
              <a:xfrm>
                <a:off x="2590920" y="190512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590920" y="1905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2590920" y="1447920"/>
            <a:ext cx="2908080" cy="1763640"/>
            <a:chOff x="2590920" y="1447920"/>
            <a:chExt cx="2908080" cy="1763640"/>
          </a:xfrm>
        </p:grpSpPr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2590920" y="1447920"/>
              <a:ext cx="469800" cy="392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" name=""/>
            <p:cNvGrpSpPr/>
            <p:nvPr/>
          </p:nvGrpSpPr>
          <p:grpSpPr>
            <a:xfrm>
              <a:off x="2590920" y="2362320"/>
              <a:ext cx="2908080" cy="849240"/>
              <a:chOff x="2590920" y="2362320"/>
              <a:chExt cx="2908080" cy="849240"/>
            </a:xfrm>
          </p:grpSpPr>
          <p:pic>
            <p:nvPicPr>
              <p:cNvPr id="8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2362320"/>
                <a:ext cx="1206360" cy="39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2590920" y="274320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24080" y="2819520"/>
                <a:ext cx="2374920" cy="392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5" name=""/>
          <p:cNvGrpSpPr/>
          <p:nvPr/>
        </p:nvGrpSpPr>
        <p:grpSpPr>
          <a:xfrm>
            <a:off x="3048120" y="1447920"/>
            <a:ext cx="2514600" cy="2601360"/>
            <a:chOff x="3048120" y="1447920"/>
            <a:chExt cx="2514600" cy="2601360"/>
          </a:xfrm>
        </p:grpSpPr>
        <p:pic>
          <p:nvPicPr>
            <p:cNvPr id="86" name="" descr=""/>
            <p:cNvPicPr/>
            <p:nvPr/>
          </p:nvPicPr>
          <p:blipFill>
            <a:blip r:embed="rId6"/>
            <a:stretch/>
          </p:blipFill>
          <p:spPr>
            <a:xfrm>
              <a:off x="3200400" y="1447920"/>
              <a:ext cx="64764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7"/>
            <a:stretch/>
          </p:blipFill>
          <p:spPr>
            <a:xfrm>
              <a:off x="3124080" y="3200040"/>
              <a:ext cx="138456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048120" y="35812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8"/>
            <a:stretch/>
          </p:blipFill>
          <p:spPr>
            <a:xfrm>
              <a:off x="3809880" y="3657240"/>
              <a:ext cx="1511280" cy="39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"/>
          <p:cNvGrpSpPr/>
          <p:nvPr/>
        </p:nvGrpSpPr>
        <p:grpSpPr>
          <a:xfrm>
            <a:off x="3733920" y="1600200"/>
            <a:ext cx="1828800" cy="3251160"/>
            <a:chOff x="3733920" y="1600200"/>
            <a:chExt cx="1828800" cy="3251160"/>
          </a:xfrm>
        </p:grpSpPr>
        <p:pic>
          <p:nvPicPr>
            <p:cNvPr id="91" name="" descr=""/>
            <p:cNvPicPr/>
            <p:nvPr/>
          </p:nvPicPr>
          <p:blipFill>
            <a:blip r:embed="rId9"/>
            <a:stretch/>
          </p:blipFill>
          <p:spPr>
            <a:xfrm>
              <a:off x="3962520" y="1600200"/>
              <a:ext cx="36828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10"/>
            <a:stretch/>
          </p:blipFill>
          <p:spPr>
            <a:xfrm>
              <a:off x="3809880" y="4038840"/>
              <a:ext cx="96516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733920" y="44197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11"/>
            <a:stretch/>
          </p:blipFill>
          <p:spPr>
            <a:xfrm>
              <a:off x="4419720" y="4572000"/>
              <a:ext cx="736560" cy="2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419720" y="1523880"/>
            <a:ext cx="838080" cy="4012920"/>
            <a:chOff x="4419720" y="1523880"/>
            <a:chExt cx="838080" cy="4012920"/>
          </a:xfrm>
        </p:grpSpPr>
        <p:pic>
          <p:nvPicPr>
            <p:cNvPr id="96" name="" descr=""/>
            <p:cNvPicPr/>
            <p:nvPr/>
          </p:nvPicPr>
          <p:blipFill>
            <a:blip r:embed="rId12"/>
            <a:stretch/>
          </p:blipFill>
          <p:spPr>
            <a:xfrm>
              <a:off x="4572000" y="1523880"/>
              <a:ext cx="34128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3"/>
            <a:stretch/>
          </p:blipFill>
          <p:spPr>
            <a:xfrm>
              <a:off x="4419720" y="4876560"/>
              <a:ext cx="73656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419720" y="51814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4"/>
            <a:stretch/>
          </p:blipFill>
          <p:spPr>
            <a:xfrm>
              <a:off x="4952880" y="5257440"/>
              <a:ext cx="19080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1371600" y="304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nthetic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380880" y="533520"/>
            <a:ext cx="8305920" cy="3574800"/>
            <a:chOff x="380880" y="533520"/>
            <a:chExt cx="8305920" cy="3574800"/>
          </a:xfrm>
        </p:grpSpPr>
        <p:graphicFrame>
          <p:nvGraphicFramePr>
            <p:cNvPr id="463" name=""/>
            <p:cNvGraphicFramePr/>
            <p:nvPr/>
          </p:nvGraphicFramePr>
          <p:xfrm>
            <a:off x="380880" y="685800"/>
            <a:ext cx="1791000" cy="40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685800"/>
                      <a:ext cx="1791000" cy="4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3429000" y="533520"/>
              <a:ext cx="5257800" cy="357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466" name=""/>
          <p:cNvGrpSpPr/>
          <p:nvPr/>
        </p:nvGrpSpPr>
        <p:grpSpPr>
          <a:xfrm>
            <a:off x="380880" y="533520"/>
            <a:ext cx="8305920" cy="3574800"/>
            <a:chOff x="380880" y="533520"/>
            <a:chExt cx="8305920" cy="3574800"/>
          </a:xfrm>
        </p:grpSpPr>
        <p:graphicFrame>
          <p:nvGraphicFramePr>
            <p:cNvPr id="467" name=""/>
            <p:cNvGraphicFramePr/>
            <p:nvPr/>
          </p:nvGraphicFramePr>
          <p:xfrm>
            <a:off x="380880" y="1447920"/>
            <a:ext cx="2222640" cy="404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880" y="1447920"/>
                      <a:ext cx="2222640" cy="4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9" name=""/>
            <p:cNvGraphicFramePr/>
            <p:nvPr/>
          </p:nvGraphicFramePr>
          <p:xfrm>
            <a:off x="609480" y="1905120"/>
            <a:ext cx="1955880" cy="480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09480" y="1905120"/>
                      <a:ext cx="195588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71" name="" descr=""/>
            <p:cNvPicPr/>
            <p:nvPr/>
          </p:nvPicPr>
          <p:blipFill>
            <a:blip r:embed="rId8"/>
            <a:stretch/>
          </p:blipFill>
          <p:spPr>
            <a:xfrm>
              <a:off x="3429000" y="533520"/>
              <a:ext cx="5257800" cy="357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380880" y="533520"/>
            <a:ext cx="8305920" cy="3574800"/>
            <a:chOff x="380880" y="533520"/>
            <a:chExt cx="8305920" cy="3574800"/>
          </a:xfrm>
        </p:grpSpPr>
        <p:graphicFrame>
          <p:nvGraphicFramePr>
            <p:cNvPr id="473" name=""/>
            <p:cNvGraphicFramePr/>
            <p:nvPr/>
          </p:nvGraphicFramePr>
          <p:xfrm>
            <a:off x="380880" y="1447920"/>
            <a:ext cx="2222640" cy="40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447920"/>
                      <a:ext cx="2222640" cy="4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5" name=""/>
            <p:cNvGraphicFramePr/>
            <p:nvPr/>
          </p:nvGraphicFramePr>
          <p:xfrm>
            <a:off x="609480" y="1905120"/>
            <a:ext cx="1955880" cy="48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1905120"/>
                      <a:ext cx="195588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77" name="" descr=""/>
            <p:cNvPicPr/>
            <p:nvPr/>
          </p:nvPicPr>
          <p:blipFill>
            <a:blip r:embed="rId5"/>
            <a:stretch/>
          </p:blipFill>
          <p:spPr>
            <a:xfrm>
              <a:off x="3429000" y="533520"/>
              <a:ext cx="5257800" cy="357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478" name=""/>
          <p:cNvGrpSpPr/>
          <p:nvPr/>
        </p:nvGrpSpPr>
        <p:grpSpPr>
          <a:xfrm>
            <a:off x="276120" y="533520"/>
            <a:ext cx="8410680" cy="3574800"/>
            <a:chOff x="276120" y="533520"/>
            <a:chExt cx="8410680" cy="3574800"/>
          </a:xfrm>
        </p:grpSpPr>
        <p:graphicFrame>
          <p:nvGraphicFramePr>
            <p:cNvPr id="479" name=""/>
            <p:cNvGraphicFramePr/>
            <p:nvPr/>
          </p:nvGraphicFramePr>
          <p:xfrm>
            <a:off x="276120" y="2362320"/>
            <a:ext cx="2495520" cy="415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8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76120" y="2362320"/>
                      <a:ext cx="249552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81" name="" descr=""/>
            <p:cNvPicPr/>
            <p:nvPr/>
          </p:nvPicPr>
          <p:blipFill>
            <a:blip r:embed="rId8"/>
            <a:stretch/>
          </p:blipFill>
          <p:spPr>
            <a:xfrm>
              <a:off x="3429000" y="533520"/>
              <a:ext cx="5257800" cy="357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276120" y="533520"/>
            <a:ext cx="8410680" cy="3574800"/>
            <a:chOff x="276120" y="533520"/>
            <a:chExt cx="8410680" cy="3574800"/>
          </a:xfrm>
        </p:grpSpPr>
        <p:graphicFrame>
          <p:nvGraphicFramePr>
            <p:cNvPr id="483" name=""/>
            <p:cNvGraphicFramePr/>
            <p:nvPr/>
          </p:nvGraphicFramePr>
          <p:xfrm>
            <a:off x="276120" y="2362320"/>
            <a:ext cx="2495520" cy="41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6120" y="2362320"/>
                      <a:ext cx="249552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85" name="" descr=""/>
            <p:cNvPicPr/>
            <p:nvPr/>
          </p:nvPicPr>
          <p:blipFill>
            <a:blip r:embed="rId3"/>
            <a:stretch/>
          </p:blipFill>
          <p:spPr>
            <a:xfrm>
              <a:off x="3429000" y="533520"/>
              <a:ext cx="5257800" cy="357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486" name=""/>
          <p:cNvGrpSpPr/>
          <p:nvPr/>
        </p:nvGrpSpPr>
        <p:grpSpPr>
          <a:xfrm>
            <a:off x="304920" y="533520"/>
            <a:ext cx="8381880" cy="3574800"/>
            <a:chOff x="304920" y="533520"/>
            <a:chExt cx="8381880" cy="3574800"/>
          </a:xfrm>
        </p:grpSpPr>
        <p:graphicFrame>
          <p:nvGraphicFramePr>
            <p:cNvPr id="487" name=""/>
            <p:cNvGraphicFramePr/>
            <p:nvPr/>
          </p:nvGraphicFramePr>
          <p:xfrm>
            <a:off x="304920" y="2971800"/>
            <a:ext cx="2939760" cy="415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8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04920" y="2971800"/>
                      <a:ext cx="293976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89" name="" descr=""/>
            <p:cNvPicPr/>
            <p:nvPr/>
          </p:nvPicPr>
          <p:blipFill>
            <a:blip r:embed="rId6"/>
            <a:stretch/>
          </p:blipFill>
          <p:spPr>
            <a:xfrm>
              <a:off x="3429000" y="533520"/>
              <a:ext cx="5257800" cy="357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160" y="457200"/>
            <a:ext cx="584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2080" y="5334120"/>
            <a:ext cx="2434680" cy="1224360"/>
            <a:chOff x="532080" y="5334120"/>
            <a:chExt cx="2434680" cy="1224360"/>
          </a:xfrm>
        </p:grpSpPr>
        <p:sp>
          <p:nvSpPr>
            <p:cNvPr id="103" name=""/>
            <p:cNvSpPr/>
            <p:nvPr/>
          </p:nvSpPr>
          <p:spPr>
            <a:xfrm>
              <a:off x="532080" y="5334120"/>
              <a:ext cx="243468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 -4   -1  3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    2  -6  +3  4  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    4  -1 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90720" y="579096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90720" y="5790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048120" y="5483160"/>
            <a:ext cx="2814480" cy="1224360"/>
            <a:chOff x="3048120" y="5483160"/>
            <a:chExt cx="2814480" cy="1224360"/>
          </a:xfrm>
        </p:grpSpPr>
        <p:sp>
          <p:nvSpPr>
            <p:cNvPr id="107" name=""/>
            <p:cNvSpPr/>
            <p:nvPr/>
          </p:nvSpPr>
          <p:spPr>
            <a:xfrm>
              <a:off x="3048120" y="60163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427920" y="5483160"/>
              <a:ext cx="2434680" cy="1224360"/>
              <a:chOff x="3427920" y="5483160"/>
              <a:chExt cx="2434680" cy="1224360"/>
            </a:xfrm>
          </p:grpSpPr>
          <p:sp>
            <p:nvSpPr>
              <p:cNvPr id="109" name=""/>
              <p:cNvSpPr/>
              <p:nvPr/>
            </p:nvSpPr>
            <p:spPr>
              <a:xfrm>
                <a:off x="3427920" y="5483160"/>
                <a:ext cx="2434680" cy="12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63360" bIns="6336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    2  -6  +3  4  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    4 -1 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  -4    -1  3 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886200" y="555912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886200" y="55591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886200" y="624492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914400" y="1371600"/>
            <a:ext cx="3962520" cy="4089240"/>
            <a:chOff x="914400" y="1371600"/>
            <a:chExt cx="3962520" cy="408924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4191120" y="5181480"/>
              <a:ext cx="190440" cy="27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" name=""/>
            <p:cNvGrpSpPr/>
            <p:nvPr/>
          </p:nvGrpSpPr>
          <p:grpSpPr>
            <a:xfrm>
              <a:off x="914400" y="1371600"/>
              <a:ext cx="3962520" cy="3733920"/>
              <a:chOff x="914400" y="1371600"/>
              <a:chExt cx="3962520" cy="3733920"/>
            </a:xfrm>
          </p:grpSpPr>
          <p:pic>
            <p:nvPicPr>
              <p:cNvPr id="1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6520" y="1905120"/>
                <a:ext cx="190440" cy="2649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117" name=""/>
              <p:cNvGrpSpPr/>
              <p:nvPr/>
            </p:nvGrpSpPr>
            <p:grpSpPr>
              <a:xfrm>
                <a:off x="1676520" y="1828800"/>
                <a:ext cx="3200400" cy="380880"/>
                <a:chOff x="1676520" y="1828800"/>
                <a:chExt cx="320040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676520" y="1828800"/>
                  <a:ext cx="320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676520" y="18288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16200" y="1434960"/>
                <a:ext cx="190440" cy="2653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676520" y="2362320"/>
                <a:ext cx="190440" cy="26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1676520" y="266688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209680" y="2819520"/>
                <a:ext cx="354240" cy="2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432160" y="1434960"/>
                <a:ext cx="353880" cy="2653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209680" y="3048120"/>
                <a:ext cx="633600" cy="39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2133720" y="3505320"/>
                <a:ext cx="251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895480" y="3657600"/>
                <a:ext cx="330480" cy="2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067200" y="1492200"/>
                <a:ext cx="330120" cy="2653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67200" y="3962520"/>
                <a:ext cx="620640" cy="39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2819520" y="43434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657600" y="4495680"/>
                <a:ext cx="16344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657600" y="1447920"/>
                <a:ext cx="341280" cy="2793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657600" y="4800600"/>
                <a:ext cx="33012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3505320" y="51055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809880" y="4495680"/>
                <a:ext cx="59688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200400" y="3581280"/>
                <a:ext cx="1346040" cy="3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590920" y="2666880"/>
                <a:ext cx="2057400" cy="3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905120" y="2286000"/>
                <a:ext cx="330120" cy="39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914400" y="1981080"/>
                <a:ext cx="19044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1219320" y="1905120"/>
                <a:ext cx="330120" cy="2649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14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28800" y="1828800"/>
                <a:ext cx="330120" cy="39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720" y="1905120"/>
                <a:ext cx="353880" cy="2793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2514600" y="1828800"/>
                <a:ext cx="303120" cy="39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819520" y="1905120"/>
                <a:ext cx="341280" cy="2793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3200400" y="1828800"/>
                <a:ext cx="330120" cy="39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505320" y="1905120"/>
                <a:ext cx="353880" cy="2649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3886200" y="1905120"/>
                <a:ext cx="237960" cy="2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114800" y="1905120"/>
                <a:ext cx="341280" cy="2793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2895480" y="3124080"/>
                <a:ext cx="354240" cy="2653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276720" y="2971800"/>
                <a:ext cx="330120" cy="39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657600" y="4038480"/>
                <a:ext cx="330120" cy="26532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038480" y="4800600"/>
                <a:ext cx="341280" cy="2793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2209680" y="2362320"/>
                <a:ext cx="354240" cy="2649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2590920" y="2209680"/>
                <a:ext cx="303120" cy="3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4191120" y="1447920"/>
                <a:ext cx="353880" cy="2793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1981080" y="1371600"/>
                <a:ext cx="303480" cy="39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2819520" y="1371600"/>
                <a:ext cx="330120" cy="39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37"/>
              <a:stretch/>
            </p:blipFill>
            <p:spPr>
              <a:xfrm flipH="1">
                <a:off x="3352680" y="1523880"/>
                <a:ext cx="239760" cy="25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9" name=""/>
          <p:cNvGrpSpPr/>
          <p:nvPr/>
        </p:nvGrpSpPr>
        <p:grpSpPr>
          <a:xfrm>
            <a:off x="6019920" y="5486400"/>
            <a:ext cx="2743200" cy="1224360"/>
            <a:chOff x="6019920" y="5486400"/>
            <a:chExt cx="2743200" cy="1224360"/>
          </a:xfrm>
        </p:grpSpPr>
        <p:sp>
          <p:nvSpPr>
            <p:cNvPr id="160" name=""/>
            <p:cNvSpPr/>
            <p:nvPr/>
          </p:nvSpPr>
          <p:spPr>
            <a:xfrm>
              <a:off x="6019920" y="5867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400080" y="5486400"/>
              <a:ext cx="2363040" cy="1224360"/>
              <a:chOff x="6400080" y="5486400"/>
              <a:chExt cx="2363040" cy="1224360"/>
            </a:xfrm>
          </p:grpSpPr>
          <p:sp>
            <p:nvSpPr>
              <p:cNvPr id="162" name=""/>
              <p:cNvSpPr/>
              <p:nvPr/>
            </p:nvSpPr>
            <p:spPr>
              <a:xfrm>
                <a:off x="6400080" y="5486400"/>
                <a:ext cx="2332440" cy="12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63360" bIns="6336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  2  -6  +3  4  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  -4  1   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  -4   -1  3 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858000" y="55623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858000" y="624816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477120" y="5867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1371600" y="304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nthetic Divisio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78000" y="1219320"/>
            <a:ext cx="59065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only works with first degree divi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4320" y="1752480"/>
            <a:ext cx="37760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Solve D(x) =0 for divi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640" y="2362320"/>
            <a:ext cx="82306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Place coefficients in descending order with placeholder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ssing te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640" y="3200400"/>
            <a:ext cx="54874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Place first coefficient on the thir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752120" y="3886200"/>
            <a:ext cx="5182200" cy="1955880"/>
            <a:chOff x="1752120" y="3886200"/>
            <a:chExt cx="5182200" cy="1955880"/>
          </a:xfrm>
        </p:grpSpPr>
        <p:sp>
          <p:nvSpPr>
            <p:cNvPr id="172" name=""/>
            <p:cNvSpPr/>
            <p:nvPr/>
          </p:nvSpPr>
          <p:spPr>
            <a:xfrm>
              <a:off x="1904760" y="3886200"/>
              <a:ext cx="495396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19520" y="518148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8120" y="43434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124080" y="495288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86200" y="5029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038480" y="502920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76920" y="5029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029200" y="502920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1320" y="5105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6019920" y="50292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29400" y="5029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14600" y="3962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752120" y="4495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371600" y="304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nthetic Divisio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456840" y="1371600"/>
            <a:ext cx="5296320" cy="811080"/>
            <a:chOff x="456840" y="1371600"/>
            <a:chExt cx="5296320" cy="811080"/>
          </a:xfrm>
        </p:grpSpPr>
        <p:sp>
          <p:nvSpPr>
            <p:cNvPr id="187" name=""/>
            <p:cNvSpPr/>
            <p:nvPr/>
          </p:nvSpPr>
          <p:spPr>
            <a:xfrm>
              <a:off x="456840" y="1523880"/>
              <a:ext cx="5846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1218960" y="1371600"/>
              <a:ext cx="4534200" cy="81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"/>
          <p:cNvGrpSpPr/>
          <p:nvPr/>
        </p:nvGrpSpPr>
        <p:grpSpPr>
          <a:xfrm>
            <a:off x="2971440" y="2438280"/>
            <a:ext cx="2591640" cy="1224360"/>
            <a:chOff x="2971440" y="2438280"/>
            <a:chExt cx="2591640" cy="1224360"/>
          </a:xfrm>
        </p:grpSpPr>
        <p:sp>
          <p:nvSpPr>
            <p:cNvPr id="190" name=""/>
            <p:cNvSpPr/>
            <p:nvPr/>
          </p:nvSpPr>
          <p:spPr>
            <a:xfrm>
              <a:off x="2971440" y="2438280"/>
              <a:ext cx="259164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  1   3   -12   5   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   10  -4 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 5     -2   1    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52680" y="259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2971800" y="2819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52680" y="3200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57200" y="4114800"/>
            <a:ext cx="3962520" cy="811080"/>
            <a:chOff x="457200" y="4114800"/>
            <a:chExt cx="3962520" cy="811080"/>
          </a:xfrm>
        </p:grpSpPr>
        <p:sp>
          <p:nvSpPr>
            <p:cNvPr id="195" name=""/>
            <p:cNvSpPr/>
            <p:nvPr/>
          </p:nvSpPr>
          <p:spPr>
            <a:xfrm>
              <a:off x="457200" y="4267080"/>
              <a:ext cx="6609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1371600" y="4114800"/>
              <a:ext cx="3048120" cy="81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2819160" y="5029200"/>
            <a:ext cx="2896560" cy="1590120"/>
            <a:chOff x="2819160" y="5029200"/>
            <a:chExt cx="2896560" cy="1590120"/>
          </a:xfrm>
        </p:grpSpPr>
        <p:sp>
          <p:nvSpPr>
            <p:cNvPr id="198" name=""/>
            <p:cNvSpPr/>
            <p:nvPr/>
          </p:nvSpPr>
          <p:spPr>
            <a:xfrm>
              <a:off x="2819160" y="5029200"/>
              <a:ext cx="2896560" cy="159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   1   0   0   -3    0 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  4    8  10 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 2   4   5   10  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040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819520" y="54864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76720" y="57913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867280" y="1600200"/>
            <a:ext cx="2260800" cy="3920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495680" y="4191120"/>
            <a:ext cx="4051440" cy="7221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371600" y="304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nthetic Divisio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21960" y="457200"/>
            <a:ext cx="57128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ing Polynomia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2520" y="1219320"/>
            <a:ext cx="84409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ainder Theor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When a polynomial f(x) is divided by x-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mainder is f(r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346040" y="3962520"/>
          <a:ext cx="265464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3962520"/>
                    <a:ext cx="2654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390680" y="4724280"/>
          <a:ext cx="251460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0680" y="4724280"/>
                    <a:ext cx="25146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320840" y="5410080"/>
          <a:ext cx="276840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20840" y="5410080"/>
                    <a:ext cx="27684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607680" y="3352680"/>
            <a:ext cx="202320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D(x) = (x-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886200" y="2489040"/>
            <a:ext cx="3822840" cy="406440"/>
            <a:chOff x="3886200" y="2489040"/>
            <a:chExt cx="3822840" cy="406440"/>
          </a:xfrm>
        </p:grpSpPr>
        <p:sp>
          <p:nvSpPr>
            <p:cNvPr id="215" name=""/>
            <p:cNvSpPr/>
            <p:nvPr/>
          </p:nvSpPr>
          <p:spPr>
            <a:xfrm>
              <a:off x="3886200" y="2666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6" name=""/>
            <p:cNvGraphicFramePr/>
            <p:nvPr/>
          </p:nvGraphicFramePr>
          <p:xfrm>
            <a:off x="4419720" y="2489040"/>
            <a:ext cx="3289320" cy="406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419720" y="2489040"/>
                      <a:ext cx="328932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8" name=""/>
          <p:cNvGraphicFramePr/>
          <p:nvPr/>
        </p:nvGraphicFramePr>
        <p:xfrm>
          <a:off x="1143000" y="2286000"/>
          <a:ext cx="26542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2286000"/>
                    <a:ext cx="26542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21:40:44Z</dcterms:created>
  <dc:creator>Brookstone School</dc:creator>
  <dc:description/>
  <dc:language>en-US</dc:language>
  <cp:lastModifiedBy>Owner</cp:lastModifiedBy>
  <dcterms:modified xsi:type="dcterms:W3CDTF">2008-12-17T02:22:39Z</dcterms:modified>
  <cp:revision>40</cp:revision>
  <dc:subject/>
  <dc:title>No Slide Title</dc:title>
</cp:coreProperties>
</file>