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5.wmf" ContentType="image/x-wmf"/>
  <Override PartName="/ppt/media/image52.wmf" ContentType="image/x-wmf"/>
  <Override PartName="/ppt/media/image48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png" ContentType="image/png"/>
  <Override PartName="/ppt/media/image40.wmf" ContentType="image/x-wmf"/>
  <Override PartName="/ppt/media/image38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51.wmf" ContentType="image/x-wmf"/>
  <Override PartName="/ppt/media/image11.png" ContentType="image/png"/>
  <Override PartName="/ppt/media/image79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10.wmf" ContentType="image/x-wmf"/>
  <Override PartName="/ppt/media/image107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3.wmf" ContentType="image/x-wmf"/>
  <Override PartName="/ppt/media/image13.png" ContentType="image/png"/>
  <Override PartName="/ppt/media/image1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16.png" ContentType="image/png"/>
  <Override PartName="/ppt/media/image41.wmf" ContentType="image/x-wmf"/>
  <Override PartName="/ppt/media/image84.png" ContentType="image/png"/>
  <Override PartName="/ppt/media/image8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35.png" ContentType="image/png"/>
  <Override PartName="/ppt/media/image5.png" ContentType="image/png"/>
  <Override PartName="/ppt/media/image82.png" ContentType="image/png"/>
  <Override PartName="/ppt/media/image3.png" ContentType="image/png"/>
  <Override PartName="/ppt/media/image29.wmf" ContentType="image/x-wmf"/>
  <Override PartName="/ppt/media/image94.wmf" ContentType="image/x-wmf"/>
  <Override PartName="/ppt/media/image14.wmf" ContentType="image/x-wmf"/>
  <Override PartName="/ppt/media/image57.png" ContentType="image/png"/>
  <Override PartName="/ppt/media/image54.png" ContentType="image/png"/>
  <Override PartName="/ppt/media/image108.wmf" ContentType="image/x-wmf"/>
  <Override PartName="/ppt/media/image71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70.png" ContentType="image/png"/>
  <Override PartName="/ppt/media/image68.wmf" ContentType="image/x-wmf"/>
  <Override PartName="/ppt/media/image90.wmf" ContentType="image/x-wmf"/>
  <Override PartName="/ppt/media/image95.wmf" ContentType="image/x-wmf"/>
  <Override PartName="/ppt/media/image102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6.wmf" ContentType="image/x-wmf"/>
  <Override PartName="/ppt/media/image103.wmf" ContentType="image/x-wmf"/>
  <Override PartName="/ppt/media/image17.wmf" ContentType="image/x-wmf"/>
  <Override PartName="/ppt/media/image114.wmf" ContentType="image/x-wmf"/>
  <Override PartName="/ppt/media/image113.wmf" ContentType="image/x-wmf"/>
  <Override PartName="/ppt/media/image81.wmf" ContentType="image/x-wmf"/>
  <Override PartName="/ppt/media/image101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89.wmf" ContentType="image/x-wmf"/>
  <Override PartName="/ppt/media/image111.wmf" ContentType="image/x-wmf"/>
  <Override PartName="/ppt/media/image85.wmf" ContentType="image/x-wmf"/>
  <Override PartName="/ppt/media/image69.wmf" ContentType="image/x-wmf"/>
  <Override PartName="/ppt/media/image66.wmf" ContentType="image/x-wmf"/>
  <Override PartName="/ppt/media/image65.wmf" ContentType="image/x-wmf"/>
  <Override PartName="/ppt/media/image63.wmf" ContentType="image/x-wmf"/>
  <Override PartName="/ppt/media/image115.wmf" ContentType="image/x-wmf"/>
  <Override PartName="/ppt/media/image61.png" ContentType="image/png"/>
  <Override PartName="/ppt/media/image22.wmf" ContentType="image/x-wmf"/>
  <Override PartName="/ppt/media/image28.wmf" ContentType="image/x-wmf"/>
  <Override PartName="/ppt/media/image93.wmf" ContentType="image/x-wmf"/>
  <Override PartName="/ppt/media/image27.wmf" ContentType="image/x-wmf"/>
  <Override PartName="/ppt/media/image92.wmf" ContentType="image/x-wmf"/>
  <Override PartName="/ppt/media/image26.wmf" ContentType="image/x-wmf"/>
  <Override PartName="/ppt/media/image91.wmf" ContentType="image/x-wmf"/>
  <Override PartName="/ppt/media/image67.png" ContentType="image/png"/>
  <Override PartName="/ppt/media/image24.wmf" ContentType="image/x-wmf"/>
  <Override PartName="/ppt/media/image59.wmf" ContentType="image/x-wmf"/>
  <Override PartName="/ppt/media/image110.wmf" ContentType="image/x-wmf"/>
  <Override PartName="/ppt/media/image23.wmf" ContentType="image/x-wmf"/>
  <Override PartName="/ppt/media/image20.png" ContentType="image/png"/>
  <Override PartName="/ppt/media/image88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56.wmf" ContentType="image/x-wmf"/>
  <Override PartName="/ppt/media/image15.wmf" ContentType="image/x-wmf"/>
  <Override PartName="/ppt/media/image8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8C8-9803-4E0E-A6D4-E928D42B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8CC-BEA0-40A6-803A-BBACB636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4AC-7D46-46EE-A574-EF30E9F8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A9F-043B-40CA-AA03-FEAB84CD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96B-D6CF-4B58-8E71-6705D98C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C7C-B4FB-4E71-993E-0BEC6827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82B-3E2B-40F2-999A-D112E29A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AC4-C8A3-4E07-9B9D-A732C647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9B0-1624-42A7-8A51-7E5C8010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922-11DA-4C18-B38B-454FA936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D4C-88E7-4D2C-9427-9CA21C83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4A8-3A71-423E-AEB5-B3075048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B932-038C-45AD-B092-217606FF9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0.wmf"/><Relationship Id="rId8" Type="http://schemas.openxmlformats.org/officeDocument/2006/relationships/image" Target="../media/image9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4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2.wm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image" Target="../media/image10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7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2.wmf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6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057400"/>
            <a:ext cx="127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6386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99680" y="1219320"/>
            <a:ext cx="56624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Disc/Wash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Metho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28600" y="228600"/>
            <a:ext cx="8915400" cy="4729320"/>
            <a:chOff x="228600" y="228600"/>
            <a:chExt cx="8915400" cy="4729320"/>
          </a:xfrm>
        </p:grpSpPr>
        <p:graphicFrame>
          <p:nvGraphicFramePr>
            <p:cNvPr id="129" name=""/>
            <p:cNvGraphicFramePr/>
            <p:nvPr/>
          </p:nvGraphicFramePr>
          <p:xfrm>
            <a:off x="5715000" y="1066680"/>
            <a:ext cx="3011400" cy="389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1066680"/>
                      <a:ext cx="3011400" cy="389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228600" y="228600"/>
              <a:ext cx="89154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the graph of y = 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y = 0, x = 0, and x = 1 around the y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914400" y="1600200"/>
            <a:ext cx="4724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 below y=1 is a cylinder with radius 1 and height 1.  Volume 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1480" y="2590920"/>
          <a:ext cx="323856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1480" y="2590920"/>
                    <a:ext cx="32385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270080" y="3429000"/>
          <a:ext cx="267948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0080" y="3429000"/>
                    <a:ext cx="2679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228600"/>
            <a:ext cx="8915400" cy="3560760"/>
            <a:chOff x="228600" y="228600"/>
            <a:chExt cx="8915400" cy="3560760"/>
          </a:xfrm>
        </p:grpSpPr>
        <p:graphicFrame>
          <p:nvGraphicFramePr>
            <p:cNvPr id="138" name=""/>
            <p:cNvGraphicFramePr/>
            <p:nvPr/>
          </p:nvGraphicFramePr>
          <p:xfrm>
            <a:off x="5181480" y="1523880"/>
            <a:ext cx="3695760" cy="226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1480" y="1523880"/>
                      <a:ext cx="3695760" cy="226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228600" y="228600"/>
              <a:ext cx="89154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.  A manufacturer drills a hole through the center of a metal sphere of radius 5 inches.  The hole has a radius of 3 inches.  What is the volume of the resulting metal r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"/>
          <p:cNvGraphicFramePr/>
          <p:nvPr/>
        </p:nvGraphicFramePr>
        <p:xfrm>
          <a:off x="1143000" y="1523880"/>
          <a:ext cx="125748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12574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66880" y="1523880"/>
          <a:ext cx="1409760" cy="4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523880"/>
                    <a:ext cx="140976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743200" y="2057400"/>
          <a:ext cx="62064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057400"/>
                    <a:ext cx="620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066680" y="2438280"/>
          <a:ext cx="2718000" cy="31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2438280"/>
                    <a:ext cx="27180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066680" y="3048120"/>
          <a:ext cx="3543480" cy="85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3048120"/>
                    <a:ext cx="3543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295280" y="4191120"/>
          <a:ext cx="306072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4191120"/>
                    <a:ext cx="3060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80880" y="228600"/>
            <a:ext cx="8763120" cy="2835360"/>
            <a:chOff x="380880" y="228600"/>
            <a:chExt cx="8763120" cy="2835360"/>
          </a:xfrm>
        </p:grpSpPr>
        <p:grpSp>
          <p:nvGrpSpPr>
            <p:cNvPr id="154" name=""/>
            <p:cNvGrpSpPr/>
            <p:nvPr/>
          </p:nvGrpSpPr>
          <p:grpSpPr>
            <a:xfrm>
              <a:off x="380880" y="228600"/>
              <a:ext cx="8763120" cy="2835360"/>
              <a:chOff x="380880" y="228600"/>
              <a:chExt cx="8763120" cy="2835360"/>
            </a:xfrm>
          </p:grpSpPr>
          <p:graphicFrame>
            <p:nvGraphicFramePr>
              <p:cNvPr id="155" name=""/>
              <p:cNvGraphicFramePr/>
              <p:nvPr/>
            </p:nvGraphicFramePr>
            <p:xfrm>
              <a:off x="5029200" y="1066680"/>
              <a:ext cx="3797280" cy="1997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29200" y="1066680"/>
                        <a:ext cx="3797280" cy="1997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7" name=""/>
              <p:cNvSpPr/>
              <p:nvPr/>
            </p:nvSpPr>
            <p:spPr>
              <a:xfrm>
                <a:off x="380880" y="228600"/>
                <a:ext cx="8763120" cy="12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63360" anchor="t">
                <a:spAutoFit/>
              </a:bodyPr>
              <a:p>
                <a:pPr marL="571680" indent="-5716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x.  A pontoon is to be made in the shape formed by revolving the region bounded by f(x) and the x-axis around the x-axis.  What is its volume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8" name=""/>
            <p:cNvGraphicFramePr/>
            <p:nvPr/>
          </p:nvGraphicFramePr>
          <p:xfrm>
            <a:off x="1066680" y="1600200"/>
            <a:ext cx="2070360" cy="633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600200"/>
                      <a:ext cx="2070360" cy="63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0" name=""/>
          <p:cNvGraphicFramePr/>
          <p:nvPr/>
        </p:nvGraphicFramePr>
        <p:xfrm>
          <a:off x="1066680" y="2514600"/>
          <a:ext cx="228600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2514600"/>
                    <a:ext cx="2286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359000" y="3581280"/>
          <a:ext cx="256536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9000" y="3581280"/>
                    <a:ext cx="25653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4724280"/>
          <a:ext cx="273060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4724280"/>
                    <a:ext cx="2730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80880" y="228600"/>
            <a:ext cx="8763120" cy="3571920"/>
            <a:chOff x="380880" y="228600"/>
            <a:chExt cx="8763120" cy="3571920"/>
          </a:xfrm>
        </p:grpSpPr>
        <p:graphicFrame>
          <p:nvGraphicFramePr>
            <p:cNvPr id="167" name=""/>
            <p:cNvGraphicFramePr/>
            <p:nvPr/>
          </p:nvGraphicFramePr>
          <p:xfrm>
            <a:off x="762120" y="1143000"/>
            <a:ext cx="2666880" cy="265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143000"/>
                      <a:ext cx="2666880" cy="26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 Set up and evaluate the integral that gives the volume of the solid formed by revolving the region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3657600" y="1143000"/>
            <a:ext cx="1130400" cy="39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7600" y="1143000"/>
                      <a:ext cx="1130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2" name=""/>
          <p:cNvGraphicFramePr/>
          <p:nvPr/>
        </p:nvGraphicFramePr>
        <p:xfrm>
          <a:off x="3657600" y="1676520"/>
          <a:ext cx="165096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676520"/>
                    <a:ext cx="16509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657600" y="2514600"/>
          <a:ext cx="26924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2514600"/>
                    <a:ext cx="26924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505320" y="1752480"/>
          <a:ext cx="176508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752480"/>
                    <a:ext cx="17650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029200" y="1219320"/>
          <a:ext cx="124452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219320"/>
                    <a:ext cx="12445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81280" y="2438280"/>
          <a:ext cx="212112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21211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380880" y="228600"/>
            <a:ext cx="8763120" cy="3733920"/>
            <a:chOff x="380880" y="228600"/>
            <a:chExt cx="8763120" cy="3733920"/>
          </a:xfrm>
        </p:grpSpPr>
        <p:graphicFrame>
          <p:nvGraphicFramePr>
            <p:cNvPr id="183" name=""/>
            <p:cNvGraphicFramePr/>
            <p:nvPr/>
          </p:nvGraphicFramePr>
          <p:xfrm>
            <a:off x="609480" y="1219320"/>
            <a:ext cx="2644920" cy="274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480" y="1219320"/>
                      <a:ext cx="264492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3505320" y="1219320"/>
            <a:ext cx="1244520" cy="39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05320" y="1219320"/>
                      <a:ext cx="12445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  Set up and evaluate the integral that gives the volume of the solid formed by revolving the region about the y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80880" y="228600"/>
            <a:ext cx="8763120" cy="3429000"/>
            <a:chOff x="380880" y="228600"/>
            <a:chExt cx="8763120" cy="3429000"/>
          </a:xfrm>
        </p:grpSpPr>
        <p:sp>
          <p:nvSpPr>
            <p:cNvPr id="189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.  Find the volume of the solid generated by revolving the region bounded by the graphs abound the indicated li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990720" y="1143000"/>
            <a:ext cx="29210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1143000"/>
                      <a:ext cx="29210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609120" y="1676520"/>
              <a:ext cx="1593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y-ax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6280200" y="1143000"/>
            <a:ext cx="236844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80200" y="1143000"/>
                      <a:ext cx="236844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" name=""/>
          <p:cNvGraphicFramePr/>
          <p:nvPr/>
        </p:nvGraphicFramePr>
        <p:xfrm>
          <a:off x="1047600" y="2205000"/>
          <a:ext cx="177804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7600" y="2205000"/>
                    <a:ext cx="17780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219320" y="3200400"/>
          <a:ext cx="276840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200400"/>
                    <a:ext cx="27684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447920" y="4343400"/>
          <a:ext cx="228600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4343400"/>
                    <a:ext cx="2286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532800" y="304920"/>
            <a:ext cx="8335080" cy="2809800"/>
            <a:chOff x="532800" y="304920"/>
            <a:chExt cx="8335080" cy="2809800"/>
          </a:xfrm>
        </p:grpSpPr>
        <p:graphicFrame>
          <p:nvGraphicFramePr>
            <p:cNvPr id="202" name=""/>
            <p:cNvGraphicFramePr/>
            <p:nvPr/>
          </p:nvGraphicFramePr>
          <p:xfrm>
            <a:off x="6172200" y="304920"/>
            <a:ext cx="2695680" cy="280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72200" y="304920"/>
                      <a:ext cx="2695680" cy="28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532800" y="304920"/>
              <a:ext cx="1398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" name=""/>
          <p:cNvGraphicFramePr/>
          <p:nvPr/>
        </p:nvGraphicFramePr>
        <p:xfrm>
          <a:off x="1143000" y="838080"/>
          <a:ext cx="2133720" cy="5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838080"/>
                    <a:ext cx="2133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143000" y="1447920"/>
          <a:ext cx="2476440" cy="85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447920"/>
                    <a:ext cx="24764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609480" y="3276720"/>
            <a:ext cx="8305920" cy="2800080"/>
            <a:chOff x="609480" y="3276720"/>
            <a:chExt cx="8305920" cy="2800080"/>
          </a:xfrm>
        </p:grpSpPr>
        <p:sp>
          <p:nvSpPr>
            <p:cNvPr id="210" name=""/>
            <p:cNvSpPr/>
            <p:nvPr/>
          </p:nvSpPr>
          <p:spPr>
            <a:xfrm>
              <a:off x="609480" y="3429000"/>
              <a:ext cx="1206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 y = 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6172200" y="3276720"/>
            <a:ext cx="2743200" cy="28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72200" y="3276720"/>
                      <a:ext cx="2743200" cy="28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3" name=""/>
          <p:cNvGraphicFramePr/>
          <p:nvPr/>
        </p:nvGraphicFramePr>
        <p:xfrm>
          <a:off x="1015920" y="4084560"/>
          <a:ext cx="218448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15920" y="4084560"/>
                    <a:ext cx="21844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870120" y="4648320"/>
          <a:ext cx="3771720" cy="85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70120" y="4648320"/>
                    <a:ext cx="3771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80880" y="304920"/>
            <a:ext cx="8334360" cy="2895480"/>
            <a:chOff x="380880" y="304920"/>
            <a:chExt cx="8334360" cy="2895480"/>
          </a:xfrm>
        </p:grpSpPr>
        <p:graphicFrame>
          <p:nvGraphicFramePr>
            <p:cNvPr id="218" name=""/>
            <p:cNvGraphicFramePr/>
            <p:nvPr/>
          </p:nvGraphicFramePr>
          <p:xfrm>
            <a:off x="6019920" y="304920"/>
            <a:ext cx="2695320" cy="289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304920"/>
                      <a:ext cx="269532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380880" y="304920"/>
              <a:ext cx="17992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 Line x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838080" y="990720"/>
          <a:ext cx="1587600" cy="77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90720"/>
                    <a:ext cx="15876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838080" y="2057400"/>
          <a:ext cx="26290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057400"/>
                    <a:ext cx="262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5943600" y="1066680"/>
          <a:ext cx="277164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066680"/>
                    <a:ext cx="277164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80880" y="228600"/>
            <a:ext cx="87631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  Find the volume of the solid generated by revolving the region bounded by the graphs of the equations about the line y =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90720" y="1219320"/>
          <a:ext cx="17269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219320"/>
                    <a:ext cx="17269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990720" y="1752480"/>
          <a:ext cx="148572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752480"/>
                    <a:ext cx="1485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990720" y="2438280"/>
          <a:ext cx="29588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9588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58840" y="228600"/>
            <a:ext cx="9006120" cy="1788120"/>
            <a:chOff x="258840" y="228600"/>
            <a:chExt cx="9006120" cy="1788120"/>
          </a:xfrm>
        </p:grpSpPr>
        <p:sp>
          <p:nvSpPr>
            <p:cNvPr id="45" name=""/>
            <p:cNvSpPr/>
            <p:nvPr/>
          </p:nvSpPr>
          <p:spPr>
            <a:xfrm>
              <a:off x="457200" y="228600"/>
              <a:ext cx="86868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disc/washer method requires you to visualize a series of discs or washers, compute their volume and add the volumes of all possible discs/wash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8840" y="1523880"/>
              <a:ext cx="90061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ross sections of a typical disc/washer would be as shown below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4800600" y="2362320"/>
          <a:ext cx="414324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362320"/>
                    <a:ext cx="414324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8600" y="2362320"/>
          <a:ext cx="4686480" cy="34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46864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80880" y="228600"/>
            <a:ext cx="8763120" cy="3772080"/>
            <a:chOff x="380880" y="228600"/>
            <a:chExt cx="8763120" cy="3772080"/>
          </a:xfrm>
        </p:grpSpPr>
        <p:graphicFrame>
          <p:nvGraphicFramePr>
            <p:cNvPr id="235" name=""/>
            <p:cNvGraphicFramePr/>
            <p:nvPr/>
          </p:nvGraphicFramePr>
          <p:xfrm>
            <a:off x="5867280" y="1219320"/>
            <a:ext cx="2914920" cy="278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7280" y="1219320"/>
                      <a:ext cx="2914920" cy="27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.  Find the volume of the solid generated by revolving the region bounded by the graphs of the equations about the line x =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1066680" y="1143000"/>
            <a:ext cx="3340080" cy="30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143000"/>
                      <a:ext cx="3340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0" name=""/>
          <p:cNvGraphicFramePr/>
          <p:nvPr/>
        </p:nvGraphicFramePr>
        <p:xfrm>
          <a:off x="1066680" y="1600200"/>
          <a:ext cx="8254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600200"/>
                    <a:ext cx="825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066680" y="2133720"/>
          <a:ext cx="363240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36324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009800" y="2590920"/>
          <a:ext cx="30351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9800" y="2590920"/>
                    <a:ext cx="30351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990720" y="1828800"/>
          <a:ext cx="322560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32256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990720" y="2552760"/>
          <a:ext cx="322560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552760"/>
                    <a:ext cx="32256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380880" y="304920"/>
            <a:ext cx="8763120" cy="4281480"/>
            <a:chOff x="380880" y="304920"/>
            <a:chExt cx="8763120" cy="4281480"/>
          </a:xfrm>
        </p:grpSpPr>
        <p:sp>
          <p:nvSpPr>
            <p:cNvPr id="251" name=""/>
            <p:cNvSpPr/>
            <p:nvPr/>
          </p:nvSpPr>
          <p:spPr>
            <a:xfrm>
              <a:off x="380880" y="30492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.  Find the volume of the solid generated by revolving the region bounded by the graphs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990720" y="1219320"/>
            <a:ext cx="1968480" cy="404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1219320"/>
                      <a:ext cx="196848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"/>
            <p:cNvGraphicFramePr/>
            <p:nvPr/>
          </p:nvGraphicFramePr>
          <p:xfrm>
            <a:off x="5181480" y="1219320"/>
            <a:ext cx="3391200" cy="33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1219320"/>
                      <a:ext cx="3391200" cy="33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80880" y="228600"/>
            <a:ext cx="8763120" cy="4191120"/>
            <a:chOff x="380880" y="228600"/>
            <a:chExt cx="8763120" cy="4191120"/>
          </a:xfrm>
        </p:grpSpPr>
        <p:sp>
          <p:nvSpPr>
            <p:cNvPr id="25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8.  Find the volume of the solid generated by revolving the region bounded by the graphs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8" name=""/>
            <p:cNvGraphicFramePr/>
            <p:nvPr/>
          </p:nvGraphicFramePr>
          <p:xfrm>
            <a:off x="1066680" y="1143000"/>
            <a:ext cx="297180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143000"/>
                      <a:ext cx="2971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5532480" y="1066680"/>
            <a:ext cx="324972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32480" y="1066680"/>
                      <a:ext cx="324972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2" name=""/>
          <p:cNvGraphicFramePr/>
          <p:nvPr/>
        </p:nvGraphicFramePr>
        <p:xfrm>
          <a:off x="1066680" y="1752480"/>
          <a:ext cx="125748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752480"/>
                    <a:ext cx="12574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066680" y="2590920"/>
          <a:ext cx="2832120" cy="85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590920"/>
                    <a:ext cx="28321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80880" y="228600"/>
            <a:ext cx="8763120" cy="3112920"/>
            <a:chOff x="380880" y="228600"/>
            <a:chExt cx="8763120" cy="3112920"/>
          </a:xfrm>
        </p:grpSpPr>
        <p:sp>
          <p:nvSpPr>
            <p:cNvPr id="267" name=""/>
            <p:cNvSpPr/>
            <p:nvPr/>
          </p:nvSpPr>
          <p:spPr>
            <a:xfrm>
              <a:off x="380880" y="228600"/>
              <a:ext cx="876312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1.  If the proportion of the line y = .5x lying n the first quadrant is revolved about the x-axis, a cone is generated.  Find the volume of the cone extending from x =0 to x =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5943600" y="1371600"/>
              <a:ext cx="2895480" cy="1969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69" name=""/>
          <p:cNvGraphicFramePr/>
          <p:nvPr/>
        </p:nvGraphicFramePr>
        <p:xfrm>
          <a:off x="1066680" y="1676520"/>
          <a:ext cx="185436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18543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066680" y="2438280"/>
          <a:ext cx="19558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2438280"/>
                    <a:ext cx="19558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223560" y="3352680"/>
            <a:ext cx="8615520" cy="2374920"/>
            <a:chOff x="223560" y="3352680"/>
            <a:chExt cx="8615520" cy="2374920"/>
          </a:xfrm>
        </p:grpSpPr>
        <p:graphicFrame>
          <p:nvGraphicFramePr>
            <p:cNvPr id="274" name=""/>
            <p:cNvGraphicFramePr/>
            <p:nvPr/>
          </p:nvGraphicFramePr>
          <p:xfrm>
            <a:off x="838080" y="3809880"/>
            <a:ext cx="507960" cy="559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3809880"/>
                      <a:ext cx="5079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6" name=""/>
            <p:cNvSpPr/>
            <p:nvPr/>
          </p:nvSpPr>
          <p:spPr>
            <a:xfrm>
              <a:off x="223560" y="3352680"/>
              <a:ext cx="84258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3.  Use the disc method to verify that the volume of a sphere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8"/>
            <a:stretch/>
          </p:blipFill>
          <p:spPr>
            <a:xfrm>
              <a:off x="6019920" y="3809880"/>
              <a:ext cx="2819160" cy="1917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78" name=""/>
          <p:cNvGraphicFramePr/>
          <p:nvPr/>
        </p:nvGraphicFramePr>
        <p:xfrm>
          <a:off x="914400" y="4419720"/>
          <a:ext cx="29973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419720"/>
                    <a:ext cx="299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914400" y="4952880"/>
          <a:ext cx="359424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952880"/>
                    <a:ext cx="3594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143000" y="5791320"/>
          <a:ext cx="5181480" cy="7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5791320"/>
                    <a:ext cx="518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380880" y="228600"/>
            <a:ext cx="8763120" cy="3630600"/>
            <a:chOff x="380880" y="228600"/>
            <a:chExt cx="8763120" cy="363060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5029200" y="1371600"/>
              <a:ext cx="3657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695720" y="3200400"/>
              <a:ext cx="2631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7960" y="3200400"/>
              <a:ext cx="365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09560" y="1295280"/>
              <a:ext cx="365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228600"/>
              <a:ext cx="876312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5.  A cone with base of radius r and height H is cut by a plane parallel to and h units above the base.  Find the volume of the solid below the plane (the frustum of the cone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15000" y="2209680"/>
              <a:ext cx="2966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53080" y="2819520"/>
              <a:ext cx="2797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18840" y="1752480"/>
              <a:ext cx="6195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-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2209680"/>
              <a:ext cx="2797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066680" y="1523880"/>
          <a:ext cx="901800" cy="5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523880"/>
                    <a:ext cx="9018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362320" y="1523880"/>
          <a:ext cx="990360" cy="54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1523880"/>
                    <a:ext cx="9903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990720" y="2362320"/>
          <a:ext cx="156204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2362320"/>
                    <a:ext cx="15620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990720" y="3048120"/>
          <a:ext cx="1917720" cy="850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3048120"/>
                    <a:ext cx="1917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219320" y="4038480"/>
          <a:ext cx="2971800" cy="85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038480"/>
                    <a:ext cx="29718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267080" y="4038480"/>
          <a:ext cx="2857680" cy="851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67080" y="4038480"/>
                    <a:ext cx="28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1219320" y="4952880"/>
          <a:ext cx="4686120" cy="762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19320" y="4952880"/>
                    <a:ext cx="4686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952560" y="2133720"/>
          <a:ext cx="38736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2133720"/>
                    <a:ext cx="38736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219320" y="2971800"/>
          <a:ext cx="15112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1511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990720" y="3657600"/>
          <a:ext cx="28954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657600"/>
                    <a:ext cx="28954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80880" y="228600"/>
            <a:ext cx="8763120" cy="3757680"/>
            <a:chOff x="380880" y="228600"/>
            <a:chExt cx="8763120" cy="3757680"/>
          </a:xfrm>
        </p:grpSpPr>
        <p:sp>
          <p:nvSpPr>
            <p:cNvPr id="315" name=""/>
            <p:cNvSpPr/>
            <p:nvPr/>
          </p:nvSpPr>
          <p:spPr>
            <a:xfrm>
              <a:off x="380880" y="228600"/>
              <a:ext cx="8763120" cy="15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7.  A tank on the wing of a jet aircraft is formed by revolving the region bounded by the graph of f(x) and the x-axis around the x-axis, where x and y are measured in meters.  Find the tanks volum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7"/>
            <a:stretch/>
          </p:blipFill>
          <p:spPr>
            <a:xfrm>
              <a:off x="5181480" y="1447920"/>
              <a:ext cx="3733920" cy="2538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7" name=""/>
            <p:cNvGraphicFramePr/>
            <p:nvPr/>
          </p:nvGraphicFramePr>
          <p:xfrm>
            <a:off x="2603520" y="1447920"/>
            <a:ext cx="1650960" cy="55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603520" y="1447920"/>
                      <a:ext cx="165096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80880" y="0"/>
            <a:ext cx="8763120" cy="3492360"/>
            <a:chOff x="380880" y="0"/>
            <a:chExt cx="8763120" cy="3492360"/>
          </a:xfrm>
        </p:grpSpPr>
        <p:grpSp>
          <p:nvGrpSpPr>
            <p:cNvPr id="320" name=""/>
            <p:cNvGrpSpPr/>
            <p:nvPr/>
          </p:nvGrpSpPr>
          <p:grpSpPr>
            <a:xfrm>
              <a:off x="380880" y="0"/>
              <a:ext cx="8763120" cy="2030400"/>
              <a:chOff x="380880" y="0"/>
              <a:chExt cx="8763120" cy="2030400"/>
            </a:xfrm>
          </p:grpSpPr>
          <p:sp>
            <p:nvSpPr>
              <p:cNvPr id="321" name=""/>
              <p:cNvSpPr/>
              <p:nvPr/>
            </p:nvSpPr>
            <p:spPr>
              <a:xfrm>
                <a:off x="380880" y="0"/>
                <a:ext cx="8763120" cy="15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6336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9.  Find the volume of the solid generated if the upper half of the following ellipse is revolved abou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.  The x-axis to form a prolate spheroi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.  The y-axis to form an oblate sphero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1447920" y="1676520"/>
              <a:ext cx="2336760" cy="353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47920" y="1676520"/>
                        <a:ext cx="2336760" cy="35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5867280" y="1523880"/>
              <a:ext cx="2895840" cy="1968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25" name=""/>
          <p:cNvGraphicFramePr/>
          <p:nvPr/>
        </p:nvGraphicFramePr>
        <p:xfrm>
          <a:off x="1397160" y="2706840"/>
          <a:ext cx="1993680" cy="67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7160" y="2706840"/>
                    <a:ext cx="19936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339920" y="3352680"/>
          <a:ext cx="541008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9920" y="3352680"/>
                    <a:ext cx="5410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838080" y="2133720"/>
            <a:ext cx="2349720" cy="558720"/>
            <a:chOff x="838080" y="2133720"/>
            <a:chExt cx="2349720" cy="558720"/>
          </a:xfrm>
        </p:grpSpPr>
        <p:graphicFrame>
          <p:nvGraphicFramePr>
            <p:cNvPr id="330" name=""/>
            <p:cNvGraphicFramePr/>
            <p:nvPr/>
          </p:nvGraphicFramePr>
          <p:xfrm>
            <a:off x="1447920" y="2133720"/>
            <a:ext cx="1739880" cy="55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7920" y="2133720"/>
                      <a:ext cx="17398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2" name=""/>
            <p:cNvSpPr/>
            <p:nvPr/>
          </p:nvSpPr>
          <p:spPr>
            <a:xfrm>
              <a:off x="838080" y="2133720"/>
              <a:ext cx="356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838080" y="4267080"/>
            <a:ext cx="8001000" cy="2222640"/>
            <a:chOff x="838080" y="4267080"/>
            <a:chExt cx="8001000" cy="2222640"/>
          </a:xfrm>
        </p:grpSpPr>
        <p:pic>
          <p:nvPicPr>
            <p:cNvPr id="334" name="" descr=""/>
            <p:cNvPicPr/>
            <p:nvPr/>
          </p:nvPicPr>
          <p:blipFill>
            <a:blip r:embed="rId10"/>
            <a:stretch/>
          </p:blipFill>
          <p:spPr>
            <a:xfrm>
              <a:off x="6019920" y="4572000"/>
              <a:ext cx="2819160" cy="191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5" name=""/>
            <p:cNvGrpSpPr/>
            <p:nvPr/>
          </p:nvGrpSpPr>
          <p:grpSpPr>
            <a:xfrm>
              <a:off x="838080" y="4267080"/>
              <a:ext cx="2286000" cy="635040"/>
              <a:chOff x="838080" y="4267080"/>
              <a:chExt cx="2286000" cy="635040"/>
            </a:xfrm>
          </p:grpSpPr>
          <p:sp>
            <p:nvSpPr>
              <p:cNvPr id="336" name=""/>
              <p:cNvSpPr/>
              <p:nvPr/>
            </p:nvSpPr>
            <p:spPr>
              <a:xfrm>
                <a:off x="838080" y="4267080"/>
                <a:ext cx="37296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63360" bIns="633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37" name=""/>
              <p:cNvGraphicFramePr/>
              <p:nvPr/>
            </p:nvGraphicFramePr>
            <p:xfrm>
              <a:off x="1511280" y="4343400"/>
              <a:ext cx="1612800" cy="558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3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511280" y="4343400"/>
                        <a:ext cx="1612800" cy="55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339" name=""/>
          <p:cNvGraphicFramePr/>
          <p:nvPr/>
        </p:nvGraphicFramePr>
        <p:xfrm>
          <a:off x="1523880" y="4800600"/>
          <a:ext cx="1866960" cy="67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800600"/>
                    <a:ext cx="1866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1600200" y="5486400"/>
          <a:ext cx="2946240" cy="851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0200" y="5486400"/>
                    <a:ext cx="2946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752480" y="1143000"/>
          <a:ext cx="557856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57856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82040" y="304920"/>
            <a:ext cx="4560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tion of a vertical disc/was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1085760"/>
          <a:ext cx="769608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85760"/>
                    <a:ext cx="76960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597680" y="228600"/>
            <a:ext cx="48394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tion of a horizontal disc/wa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04920" y="0"/>
            <a:ext cx="8458200" cy="3338640"/>
            <a:chOff x="304920" y="0"/>
            <a:chExt cx="8458200" cy="3338640"/>
          </a:xfrm>
        </p:grpSpPr>
        <p:graphicFrame>
          <p:nvGraphicFramePr>
            <p:cNvPr id="58" name=""/>
            <p:cNvGraphicFramePr/>
            <p:nvPr/>
          </p:nvGraphicFramePr>
          <p:xfrm>
            <a:off x="5791320" y="0"/>
            <a:ext cx="2971800" cy="33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1320" y="0"/>
                      <a:ext cx="2971800" cy="33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304920" y="228600"/>
              <a:ext cx="53337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cylinder with height, dx, and radius, f(x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085760" y="1295280"/>
          <a:ext cx="2108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5760" y="1295280"/>
                    <a:ext cx="2108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854360" y="4481640"/>
          <a:ext cx="162540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4360" y="4481640"/>
                    <a:ext cx="1625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"/>
          <p:cNvGrpSpPr/>
          <p:nvPr/>
        </p:nvGrpSpPr>
        <p:grpSpPr>
          <a:xfrm>
            <a:off x="228600" y="3276720"/>
            <a:ext cx="8534520" cy="3581280"/>
            <a:chOff x="228600" y="3276720"/>
            <a:chExt cx="8534520" cy="3581280"/>
          </a:xfrm>
        </p:grpSpPr>
        <p:graphicFrame>
          <p:nvGraphicFramePr>
            <p:cNvPr id="66" name=""/>
            <p:cNvGraphicFramePr/>
            <p:nvPr/>
          </p:nvGraphicFramePr>
          <p:xfrm>
            <a:off x="5791320" y="3276720"/>
            <a:ext cx="2971800" cy="3581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1320" y="3276720"/>
                      <a:ext cx="297180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228600" y="3429000"/>
              <a:ext cx="5486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washer and its volume is the difference between two cylind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" name=""/>
          <p:cNvGraphicFramePr/>
          <p:nvPr/>
        </p:nvGraphicFramePr>
        <p:xfrm>
          <a:off x="2057400" y="5105520"/>
          <a:ext cx="2793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105520"/>
                    <a:ext cx="2793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057400" y="5715000"/>
          <a:ext cx="247644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5715000"/>
                    <a:ext cx="2476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228600"/>
            <a:ext cx="8534520" cy="3171960"/>
            <a:chOff x="228600" y="228600"/>
            <a:chExt cx="8534520" cy="3171960"/>
          </a:xfrm>
        </p:grpSpPr>
        <p:graphicFrame>
          <p:nvGraphicFramePr>
            <p:cNvPr id="74" name=""/>
            <p:cNvGraphicFramePr/>
            <p:nvPr/>
          </p:nvGraphicFramePr>
          <p:xfrm>
            <a:off x="5775480" y="228600"/>
            <a:ext cx="2987640" cy="317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75480" y="228600"/>
                      <a:ext cx="2987640" cy="31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228600" y="304920"/>
              <a:ext cx="54100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cylinder with height dy and radius, f(y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1149480" y="1295280"/>
          <a:ext cx="198108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9480" y="1295280"/>
                    <a:ext cx="19810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228600" y="3429000"/>
            <a:ext cx="8564400" cy="3200400"/>
            <a:chOff x="228600" y="3429000"/>
            <a:chExt cx="8564400" cy="3200400"/>
          </a:xfrm>
        </p:grpSpPr>
        <p:graphicFrame>
          <p:nvGraphicFramePr>
            <p:cNvPr id="80" name=""/>
            <p:cNvGraphicFramePr/>
            <p:nvPr/>
          </p:nvGraphicFramePr>
          <p:xfrm>
            <a:off x="5791320" y="3429000"/>
            <a:ext cx="30016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1320" y="3429000"/>
                      <a:ext cx="300168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228600" y="3429000"/>
              <a:ext cx="5486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washer and its volume is the difference between two cylind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" name=""/>
          <p:cNvGraphicFramePr/>
          <p:nvPr/>
        </p:nvGraphicFramePr>
        <p:xfrm>
          <a:off x="1854360" y="4481640"/>
          <a:ext cx="162540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4360" y="4481640"/>
                    <a:ext cx="1625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070000" y="5105520"/>
          <a:ext cx="27687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70000" y="5105520"/>
                    <a:ext cx="27687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070000" y="5715000"/>
          <a:ext cx="245124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70000" y="5715000"/>
                    <a:ext cx="24512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228600"/>
            <a:ext cx="8915400" cy="3381480"/>
            <a:chOff x="228600" y="228600"/>
            <a:chExt cx="8915400" cy="3381480"/>
          </a:xfrm>
        </p:grpSpPr>
        <p:graphicFrame>
          <p:nvGraphicFramePr>
            <p:cNvPr id="90" name=""/>
            <p:cNvGraphicFramePr/>
            <p:nvPr/>
          </p:nvGraphicFramePr>
          <p:xfrm>
            <a:off x="5334120" y="1143000"/>
            <a:ext cx="3468600" cy="24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1143000"/>
                      <a:ext cx="34686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from 0 to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round the x 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457200" y="1219320"/>
            <a:ext cx="2171880" cy="330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1219320"/>
                      <a:ext cx="217188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" name=""/>
          <p:cNvGraphicFramePr/>
          <p:nvPr/>
        </p:nvGraphicFramePr>
        <p:xfrm>
          <a:off x="457200" y="1752480"/>
          <a:ext cx="3441600" cy="4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52480"/>
                    <a:ext cx="34416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57200" y="2514600"/>
          <a:ext cx="35942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514600"/>
                    <a:ext cx="3594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228600"/>
            <a:ext cx="8915400" cy="3575160"/>
            <a:chOff x="228600" y="228600"/>
            <a:chExt cx="8915400" cy="3575160"/>
          </a:xfrm>
        </p:grpSpPr>
        <p:graphicFrame>
          <p:nvGraphicFramePr>
            <p:cNvPr id="100" name=""/>
            <p:cNvGraphicFramePr/>
            <p:nvPr/>
          </p:nvGraphicFramePr>
          <p:xfrm>
            <a:off x="5334120" y="1066680"/>
            <a:ext cx="3423960" cy="273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1066680"/>
                      <a:ext cx="342396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and y = 1 around y = 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533520" y="1295280"/>
            <a:ext cx="1155600" cy="354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1295280"/>
                      <a:ext cx="11556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5" name=""/>
          <p:cNvSpPr/>
          <p:nvPr/>
        </p:nvSpPr>
        <p:spPr>
          <a:xfrm>
            <a:off x="454680" y="1828800"/>
            <a:ext cx="42055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ections at (-1,1) and (1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5520" y="2484360"/>
          <a:ext cx="39114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520" y="2484360"/>
                    <a:ext cx="39114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" y="3124080"/>
          <a:ext cx="438156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43815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14600" y="4038480"/>
          <a:ext cx="2527200" cy="7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4038480"/>
                    <a:ext cx="25272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228600"/>
            <a:ext cx="8915400" cy="3697200"/>
            <a:chOff x="228600" y="228600"/>
            <a:chExt cx="8915400" cy="3697200"/>
          </a:xfrm>
        </p:grpSpPr>
        <p:graphicFrame>
          <p:nvGraphicFramePr>
            <p:cNvPr id="113" name=""/>
            <p:cNvGraphicFramePr/>
            <p:nvPr/>
          </p:nvGraphicFramePr>
          <p:xfrm>
            <a:off x="5342040" y="1066680"/>
            <a:ext cx="3801960" cy="285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42040" y="1066680"/>
                      <a:ext cx="3801960" cy="28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and g(x) around the x 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933480" y="1143000"/>
            <a:ext cx="990720" cy="74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33480" y="1143000"/>
                      <a:ext cx="99072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2362320" y="1143000"/>
            <a:ext cx="876240" cy="74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62320" y="1143000"/>
                      <a:ext cx="87624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0" name=""/>
          <p:cNvGraphicFramePr/>
          <p:nvPr/>
        </p:nvGraphicFramePr>
        <p:xfrm>
          <a:off x="914400" y="1981080"/>
          <a:ext cx="403848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981080"/>
                    <a:ext cx="40384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14400" y="2819520"/>
          <a:ext cx="25653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2819520"/>
                    <a:ext cx="25653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143000" y="3886200"/>
          <a:ext cx="181620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3886200"/>
                    <a:ext cx="181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43000" y="4876920"/>
          <a:ext cx="205740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4876920"/>
                    <a:ext cx="2057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4:35:38Z</dcterms:created>
  <dc:creator>Brookstone School</dc:creator>
  <dc:description/>
  <dc:language>en-US</dc:language>
  <cp:lastModifiedBy>Brookstone School</cp:lastModifiedBy>
  <dcterms:modified xsi:type="dcterms:W3CDTF">2002-05-12T12:41:23Z</dcterms:modified>
  <cp:revision>26</cp:revision>
  <dc:subject/>
  <dc:title>No Slide Title</dc:title>
</cp:coreProperties>
</file>