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55.wmf" ContentType="image/x-wmf"/>
  <Override PartName="/ppt/media/image52.wmf" ContentType="image/x-wmf"/>
  <Override PartName="/ppt/media/image48.wmf" ContentType="image/x-wmf"/>
  <Override PartName="/ppt/media/image50.wmf" ContentType="image/x-wmf"/>
  <Override PartName="/ppt/media/image47.png" ContentType="image/png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png" ContentType="image/png"/>
  <Override PartName="/ppt/media/image40.wmf" ContentType="image/x-wmf"/>
  <Override PartName="/ppt/media/image38.wmf" ContentType="image/x-wmf"/>
  <Override PartName="/ppt/media/image34.wmf" ContentType="image/x-wmf"/>
  <Override PartName="/ppt/media/image33.wmf" ContentType="image/x-wmf"/>
  <Override PartName="/ppt/media/image31.wmf" ContentType="image/x-wmf"/>
  <Override PartName="/ppt/media/image74.png" ContentType="image/png"/>
  <Override PartName="/ppt/media/image30.wmf" ContentType="image/x-wmf"/>
  <Override PartName="/ppt/media/image51.wmf" ContentType="image/x-wmf"/>
  <Override PartName="/ppt/media/image11.png" ContentType="image/png"/>
  <Override PartName="/ppt/media/image79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10.wmf" ContentType="image/x-wmf"/>
  <Override PartName="/ppt/media/image107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39.wmf" ContentType="image/x-wmf"/>
  <Override PartName="/ppt/media/image9.wmf" ContentType="image/x-wmf"/>
  <Override PartName="/ppt/media/image86.wmf" ContentType="image/x-wmf"/>
  <Override PartName="/ppt/media/image53.wmf" ContentType="image/x-wmf"/>
  <Override PartName="/ppt/media/image13.png" ContentType="image/png"/>
  <Override PartName="/ppt/media/image1.png" ContentType="image/png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4.png" ContentType="image/png"/>
  <Override PartName="/ppt/media/image16.png" ContentType="image/png"/>
  <Override PartName="/ppt/media/image41.wmf" ContentType="image/x-wmf"/>
  <Override PartName="/ppt/media/image84.png" ContentType="image/png"/>
  <Override PartName="/ppt/media/image8.png" ContentType="image/png"/>
  <Override PartName="/ppt/media/image37.wmf" ContentType="image/x-wmf"/>
  <Override PartName="/ppt/media/image7.wmf" ContentType="image/x-wmf"/>
  <Override PartName="/ppt/media/image19.wmf" ContentType="image/x-wmf"/>
  <Override PartName="/ppt/media/image35.png" ContentType="image/png"/>
  <Override PartName="/ppt/media/image5.png" ContentType="image/png"/>
  <Override PartName="/ppt/media/image82.png" ContentType="image/png"/>
  <Override PartName="/ppt/media/image3.png" ContentType="image/png"/>
  <Override PartName="/ppt/media/image29.wmf" ContentType="image/x-wmf"/>
  <Override PartName="/ppt/media/image94.wmf" ContentType="image/x-wmf"/>
  <Override PartName="/ppt/media/image14.wmf" ContentType="image/x-wmf"/>
  <Override PartName="/ppt/media/image57.png" ContentType="image/png"/>
  <Override PartName="/ppt/media/image54.png" ContentType="image/png"/>
  <Override PartName="/ppt/media/image108.wmf" ContentType="image/x-wmf"/>
  <Override PartName="/ppt/media/image71.wmf" ContentType="image/x-wmf"/>
  <Override PartName="/ppt/media/image72.wmf" ContentType="image/x-wmf"/>
  <Override PartName="/ppt/media/image116.wmf" ContentType="image/x-wmf"/>
  <Override PartName="/ppt/media/image73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87.wmf" ContentType="image/x-wmf"/>
  <Override PartName="/ppt/media/image70.png" ContentType="image/png"/>
  <Override PartName="/ppt/media/image68.wmf" ContentType="image/x-wmf"/>
  <Override PartName="/ppt/media/image90.wmf" ContentType="image/x-wmf"/>
  <Override PartName="/ppt/media/image95.wmf" ContentType="image/x-wmf"/>
  <Override PartName="/ppt/media/image102.wmf" ContentType="image/x-wmf"/>
  <Override PartName="/ppt/media/image97.wmf" ContentType="image/x-wmf"/>
  <Override PartName="/ppt/media/image104.wmf" ContentType="image/x-wmf"/>
  <Override PartName="/ppt/media/image60.wmf" ContentType="image/x-wmf"/>
  <Override PartName="/ppt/media/image96.wmf" ContentType="image/x-wmf"/>
  <Override PartName="/ppt/media/image103.wmf" ContentType="image/x-wmf"/>
  <Override PartName="/ppt/media/image17.wmf" ContentType="image/x-wmf"/>
  <Override PartName="/ppt/media/image114.wmf" ContentType="image/x-wmf"/>
  <Override PartName="/ppt/media/image113.wmf" ContentType="image/x-wmf"/>
  <Override PartName="/ppt/media/image81.wmf" ContentType="image/x-wmf"/>
  <Override PartName="/ppt/media/image101.wmf" ContentType="image/x-wmf"/>
  <Override PartName="/ppt/media/image99.wmf" ContentType="image/x-wmf"/>
  <Override PartName="/ppt/media/image106.wmf" ContentType="image/x-wmf"/>
  <Override PartName="/ppt/media/image62.wmf" ContentType="image/x-wmf"/>
  <Override PartName="/ppt/media/image112.wmf" ContentType="image/x-wmf"/>
  <Override PartName="/ppt/media/image98.wmf" ContentType="image/x-wmf"/>
  <Override PartName="/ppt/media/image105.wmf" ContentType="image/x-wmf"/>
  <Override PartName="/ppt/media/image89.wmf" ContentType="image/x-wmf"/>
  <Override PartName="/ppt/media/image111.wmf" ContentType="image/x-wmf"/>
  <Override PartName="/ppt/media/image85.wmf" ContentType="image/x-wmf"/>
  <Override PartName="/ppt/media/image69.wmf" ContentType="image/x-wmf"/>
  <Override PartName="/ppt/media/image66.wmf" ContentType="image/x-wmf"/>
  <Override PartName="/ppt/media/image65.wmf" ContentType="image/x-wmf"/>
  <Override PartName="/ppt/media/image63.wmf" ContentType="image/x-wmf"/>
  <Override PartName="/ppt/media/image115.wmf" ContentType="image/x-wmf"/>
  <Override PartName="/ppt/media/image61.png" ContentType="image/png"/>
  <Override PartName="/ppt/media/image22.wmf" ContentType="image/x-wmf"/>
  <Override PartName="/ppt/media/image28.wmf" ContentType="image/x-wmf"/>
  <Override PartName="/ppt/media/image93.wmf" ContentType="image/x-wmf"/>
  <Override PartName="/ppt/media/image27.wmf" ContentType="image/x-wmf"/>
  <Override PartName="/ppt/media/image92.wmf" ContentType="image/x-wmf"/>
  <Override PartName="/ppt/media/image26.wmf" ContentType="image/x-wmf"/>
  <Override PartName="/ppt/media/image91.wmf" ContentType="image/x-wmf"/>
  <Override PartName="/ppt/media/image67.png" ContentType="image/png"/>
  <Override PartName="/ppt/media/image24.wmf" ContentType="image/x-wmf"/>
  <Override PartName="/ppt/media/image59.wmf" ContentType="image/x-wmf"/>
  <Override PartName="/ppt/media/image110.wmf" ContentType="image/x-wmf"/>
  <Override PartName="/ppt/media/image23.wmf" ContentType="image/x-wmf"/>
  <Override PartName="/ppt/media/image20.png" ContentType="image/png"/>
  <Override PartName="/ppt/media/image88.wmf" ContentType="image/x-wmf"/>
  <Override PartName="/ppt/media/image64.png" ContentType="image/png"/>
  <Override PartName="/ppt/media/image21.wmf" ContentType="image/x-wmf"/>
  <Override PartName="/ppt/media/image58.wmf" ContentType="image/x-wmf"/>
  <Override PartName="/ppt/media/image56.wmf" ContentType="image/x-wmf"/>
  <Override PartName="/ppt/media/image15.wmf" ContentType="image/x-wmf"/>
  <Override PartName="/ppt/media/image8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A057-A061-444D-9076-BD35D9CC1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9599-0937-4776-8AAA-6A5EFC86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212D-51CC-456C-A896-3F80F2496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D9B7-5E85-41E7-8580-593D368E2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6ACC-D617-4981-AAE0-F1FC0102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4BF1-C13C-47A2-9DB6-4C455666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BA53-7760-4683-BA26-8CACBA75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D672-A619-4C5A-AA02-48396C49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F072-E7D0-489D-B5C3-BBCBC885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B6BE-7D68-4D12-86BA-D128CC31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105D-BFCE-4BB4-8BDA-DD03A2B2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53CE-FDC8-4960-BAE7-F8D7A9A3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EF87-4504-43C4-8884-7E96EF678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6.wmf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5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0.wmf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6.wmf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9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3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8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2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6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0.wmf"/><Relationship Id="rId8" Type="http://schemas.openxmlformats.org/officeDocument/2006/relationships/image" Target="../media/image91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92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3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94.wmf"/><Relationship Id="rId1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0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02.wmf"/><Relationship Id="rId1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5.wmf"/><Relationship Id="rId7" Type="http://schemas.openxmlformats.org/officeDocument/2006/relationships/image" Target="../media/image10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7.wmf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8.wmf"/><Relationship Id="rId3" Type="http://schemas.openxmlformats.org/officeDocument/2006/relationships/image" Target="../media/image10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2.wmf"/><Relationship Id="rId10" Type="http://schemas.openxmlformats.org/officeDocument/2006/relationships/image" Target="../media/image113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14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15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16.wmf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1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2057400"/>
            <a:ext cx="1270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563868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99680" y="1219320"/>
            <a:ext cx="5662440" cy="45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y t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Disc/Washe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Metho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228600" y="228600"/>
            <a:ext cx="8915400" cy="4729320"/>
            <a:chOff x="228600" y="228600"/>
            <a:chExt cx="8915400" cy="4729320"/>
          </a:xfrm>
        </p:grpSpPr>
        <p:graphicFrame>
          <p:nvGraphicFramePr>
            <p:cNvPr id="129" name=""/>
            <p:cNvGraphicFramePr/>
            <p:nvPr/>
          </p:nvGraphicFramePr>
          <p:xfrm>
            <a:off x="5715000" y="1066680"/>
            <a:ext cx="3011400" cy="3891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15000" y="1066680"/>
                      <a:ext cx="3011400" cy="389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" name=""/>
            <p:cNvSpPr/>
            <p:nvPr/>
          </p:nvSpPr>
          <p:spPr>
            <a:xfrm>
              <a:off x="228600" y="228600"/>
              <a:ext cx="8915400" cy="12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628560" indent="-6285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:  Find the volume of the solid formed by revolving the region bounded by the graph of y = 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y = 0, x = 0, and x = 1 around the y-axi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914400" y="1600200"/>
            <a:ext cx="47242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a below y=1 is a cylinder with radius 1 and height 1.  Volume i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041480" y="2590920"/>
          <a:ext cx="3238560" cy="85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1480" y="2590920"/>
                    <a:ext cx="323856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270080" y="3429000"/>
          <a:ext cx="2679480" cy="96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70080" y="3429000"/>
                    <a:ext cx="267948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228600" y="228600"/>
            <a:ext cx="8915400" cy="3560760"/>
            <a:chOff x="228600" y="228600"/>
            <a:chExt cx="8915400" cy="3560760"/>
          </a:xfrm>
        </p:grpSpPr>
        <p:graphicFrame>
          <p:nvGraphicFramePr>
            <p:cNvPr id="138" name=""/>
            <p:cNvGraphicFramePr/>
            <p:nvPr/>
          </p:nvGraphicFramePr>
          <p:xfrm>
            <a:off x="5181480" y="1523880"/>
            <a:ext cx="3695760" cy="2265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81480" y="1523880"/>
                      <a:ext cx="3695760" cy="226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0" name=""/>
            <p:cNvSpPr/>
            <p:nvPr/>
          </p:nvSpPr>
          <p:spPr>
            <a:xfrm>
              <a:off x="228600" y="228600"/>
              <a:ext cx="8915400" cy="12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571680" indent="-571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.  A manufacturer drills a hole through the center of a metal sphere of radius 5 inches.  The hole has a radius of 3 inches.  What is the volume of the resulting metal ring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1" name=""/>
          <p:cNvGraphicFramePr/>
          <p:nvPr/>
        </p:nvGraphicFramePr>
        <p:xfrm>
          <a:off x="1143000" y="1523880"/>
          <a:ext cx="1257480" cy="35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523880"/>
                    <a:ext cx="125748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2666880" y="1523880"/>
          <a:ext cx="1409760" cy="405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1523880"/>
                    <a:ext cx="140976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743200" y="2057400"/>
          <a:ext cx="620640" cy="270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2057400"/>
                    <a:ext cx="62064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066680" y="2438280"/>
          <a:ext cx="2718000" cy="316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66680" y="2438280"/>
                    <a:ext cx="271800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1066680" y="3048120"/>
          <a:ext cx="3543480" cy="850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66680" y="3048120"/>
                    <a:ext cx="354348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1295280" y="4191120"/>
          <a:ext cx="3060720" cy="838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95280" y="4191120"/>
                    <a:ext cx="30607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380880" y="228600"/>
            <a:ext cx="8763120" cy="2835360"/>
            <a:chOff x="380880" y="228600"/>
            <a:chExt cx="8763120" cy="2835360"/>
          </a:xfrm>
        </p:grpSpPr>
        <p:grpSp>
          <p:nvGrpSpPr>
            <p:cNvPr id="154" name=""/>
            <p:cNvGrpSpPr/>
            <p:nvPr/>
          </p:nvGrpSpPr>
          <p:grpSpPr>
            <a:xfrm>
              <a:off x="380880" y="228600"/>
              <a:ext cx="8763120" cy="2835360"/>
              <a:chOff x="380880" y="228600"/>
              <a:chExt cx="8763120" cy="2835360"/>
            </a:xfrm>
          </p:grpSpPr>
          <p:graphicFrame>
            <p:nvGraphicFramePr>
              <p:cNvPr id="155" name=""/>
              <p:cNvGraphicFramePr/>
              <p:nvPr/>
            </p:nvGraphicFramePr>
            <p:xfrm>
              <a:off x="5029200" y="1066680"/>
              <a:ext cx="3797280" cy="19972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5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029200" y="1066680"/>
                        <a:ext cx="3797280" cy="1997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57" name=""/>
              <p:cNvSpPr/>
              <p:nvPr/>
            </p:nvSpPr>
            <p:spPr>
              <a:xfrm>
                <a:off x="380880" y="228600"/>
                <a:ext cx="8763120" cy="122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360" rIns="63360" tIns="63360" bIns="63360" anchor="t">
                <a:spAutoFit/>
              </a:bodyPr>
              <a:p>
                <a:pPr marL="571680" indent="-5716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x.  A pontoon is to be made in the shape formed by revolving the region bounded by f(x) and the x-axis around the x-axis.  What is its volume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58" name=""/>
            <p:cNvGraphicFramePr/>
            <p:nvPr/>
          </p:nvGraphicFramePr>
          <p:xfrm>
            <a:off x="1066680" y="1600200"/>
            <a:ext cx="2070360" cy="633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66680" y="1600200"/>
                      <a:ext cx="2070360" cy="63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60" name=""/>
          <p:cNvGraphicFramePr/>
          <p:nvPr/>
        </p:nvGraphicFramePr>
        <p:xfrm>
          <a:off x="1066680" y="2514600"/>
          <a:ext cx="2286000" cy="85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2514600"/>
                    <a:ext cx="228600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1359000" y="3581280"/>
          <a:ext cx="2565360" cy="85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59000" y="3581280"/>
                    <a:ext cx="256536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1295280" y="4724280"/>
          <a:ext cx="2730600" cy="83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95280" y="4724280"/>
                    <a:ext cx="27306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380880" y="228600"/>
            <a:ext cx="8763120" cy="3571920"/>
            <a:chOff x="380880" y="228600"/>
            <a:chExt cx="8763120" cy="3571920"/>
          </a:xfrm>
        </p:grpSpPr>
        <p:graphicFrame>
          <p:nvGraphicFramePr>
            <p:cNvPr id="167" name=""/>
            <p:cNvGraphicFramePr/>
            <p:nvPr/>
          </p:nvGraphicFramePr>
          <p:xfrm>
            <a:off x="762120" y="1143000"/>
            <a:ext cx="2666880" cy="2657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2120" y="1143000"/>
                      <a:ext cx="2666880" cy="265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9" name=""/>
            <p:cNvSpPr/>
            <p:nvPr/>
          </p:nvSpPr>
          <p:spPr>
            <a:xfrm>
              <a:off x="380880" y="228600"/>
              <a:ext cx="87631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.  Set up and evaluate the integral that gives the volume of the solid formed by revolving the region about the x-axi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0" name=""/>
            <p:cNvGraphicFramePr/>
            <p:nvPr/>
          </p:nvGraphicFramePr>
          <p:xfrm>
            <a:off x="3657600" y="1143000"/>
            <a:ext cx="1130400" cy="392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57600" y="1143000"/>
                      <a:ext cx="113040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2" name=""/>
          <p:cNvGraphicFramePr/>
          <p:nvPr/>
        </p:nvGraphicFramePr>
        <p:xfrm>
          <a:off x="3657600" y="1676520"/>
          <a:ext cx="165096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7600" y="1676520"/>
                    <a:ext cx="16509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3657600" y="2514600"/>
          <a:ext cx="2692440" cy="85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7600" y="2514600"/>
                    <a:ext cx="269244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3505320" y="1752480"/>
          <a:ext cx="1765080" cy="62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752480"/>
                    <a:ext cx="17650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5029200" y="1219320"/>
          <a:ext cx="1244520" cy="40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1219320"/>
                    <a:ext cx="124452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581280" y="2438280"/>
          <a:ext cx="2121120" cy="85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2438280"/>
                    <a:ext cx="212112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2" name=""/>
          <p:cNvGrpSpPr/>
          <p:nvPr/>
        </p:nvGrpSpPr>
        <p:grpSpPr>
          <a:xfrm>
            <a:off x="380880" y="228600"/>
            <a:ext cx="8763120" cy="3733920"/>
            <a:chOff x="380880" y="228600"/>
            <a:chExt cx="8763120" cy="3733920"/>
          </a:xfrm>
        </p:grpSpPr>
        <p:graphicFrame>
          <p:nvGraphicFramePr>
            <p:cNvPr id="183" name=""/>
            <p:cNvGraphicFramePr/>
            <p:nvPr/>
          </p:nvGraphicFramePr>
          <p:xfrm>
            <a:off x="609480" y="1219320"/>
            <a:ext cx="2644920" cy="2743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9480" y="1219320"/>
                      <a:ext cx="2644920" cy="274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3505320" y="1219320"/>
            <a:ext cx="1244520" cy="392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505320" y="1219320"/>
                      <a:ext cx="124452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7" name=""/>
            <p:cNvSpPr/>
            <p:nvPr/>
          </p:nvSpPr>
          <p:spPr>
            <a:xfrm>
              <a:off x="380880" y="228600"/>
              <a:ext cx="87631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.  Set up and evaluate the integral that gives the volume of the solid formed by revolving the region about the y-axi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380880" y="228600"/>
            <a:ext cx="8763120" cy="3429000"/>
            <a:chOff x="380880" y="228600"/>
            <a:chExt cx="8763120" cy="3429000"/>
          </a:xfrm>
        </p:grpSpPr>
        <p:sp>
          <p:nvSpPr>
            <p:cNvPr id="189" name=""/>
            <p:cNvSpPr/>
            <p:nvPr/>
          </p:nvSpPr>
          <p:spPr>
            <a:xfrm>
              <a:off x="380880" y="228600"/>
              <a:ext cx="87631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2.  Find the volume of the solid generated by revolving the region bounded by the graphs abound the indicated lin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0" name=""/>
            <p:cNvGraphicFramePr/>
            <p:nvPr/>
          </p:nvGraphicFramePr>
          <p:xfrm>
            <a:off x="990720" y="1143000"/>
            <a:ext cx="2921040" cy="368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90720" y="1143000"/>
                      <a:ext cx="292104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2" name=""/>
            <p:cNvSpPr/>
            <p:nvPr/>
          </p:nvSpPr>
          <p:spPr>
            <a:xfrm>
              <a:off x="609120" y="1676520"/>
              <a:ext cx="159336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    y-ax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3" name=""/>
            <p:cNvGraphicFramePr/>
            <p:nvPr/>
          </p:nvGraphicFramePr>
          <p:xfrm>
            <a:off x="6280200" y="1143000"/>
            <a:ext cx="236844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80200" y="1143000"/>
                      <a:ext cx="236844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95" name=""/>
          <p:cNvGraphicFramePr/>
          <p:nvPr/>
        </p:nvGraphicFramePr>
        <p:xfrm>
          <a:off x="1047600" y="2205000"/>
          <a:ext cx="1778040" cy="77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7600" y="2205000"/>
                    <a:ext cx="177804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1219320" y="3200400"/>
          <a:ext cx="2768400" cy="85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9320" y="3200400"/>
                    <a:ext cx="276840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1447920" y="4343400"/>
          <a:ext cx="228600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47920" y="4343400"/>
                    <a:ext cx="2286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532800" y="304920"/>
            <a:ext cx="8335080" cy="2809800"/>
            <a:chOff x="532800" y="304920"/>
            <a:chExt cx="8335080" cy="2809800"/>
          </a:xfrm>
        </p:grpSpPr>
        <p:graphicFrame>
          <p:nvGraphicFramePr>
            <p:cNvPr id="202" name=""/>
            <p:cNvGraphicFramePr/>
            <p:nvPr/>
          </p:nvGraphicFramePr>
          <p:xfrm>
            <a:off x="6172200" y="304920"/>
            <a:ext cx="2695680" cy="2809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72200" y="304920"/>
                      <a:ext cx="2695680" cy="280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" name=""/>
            <p:cNvSpPr/>
            <p:nvPr/>
          </p:nvSpPr>
          <p:spPr>
            <a:xfrm>
              <a:off x="532800" y="304920"/>
              <a:ext cx="139860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   x-ax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5" name=""/>
          <p:cNvGraphicFramePr/>
          <p:nvPr/>
        </p:nvGraphicFramePr>
        <p:xfrm>
          <a:off x="1143000" y="838080"/>
          <a:ext cx="2133720" cy="53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838080"/>
                    <a:ext cx="213372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1143000" y="1447920"/>
          <a:ext cx="2476440" cy="85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1447920"/>
                    <a:ext cx="247644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"/>
          <p:cNvGrpSpPr/>
          <p:nvPr/>
        </p:nvGrpSpPr>
        <p:grpSpPr>
          <a:xfrm>
            <a:off x="609480" y="3276720"/>
            <a:ext cx="8305920" cy="2800080"/>
            <a:chOff x="609480" y="3276720"/>
            <a:chExt cx="8305920" cy="2800080"/>
          </a:xfrm>
        </p:grpSpPr>
        <p:sp>
          <p:nvSpPr>
            <p:cNvPr id="210" name=""/>
            <p:cNvSpPr/>
            <p:nvPr/>
          </p:nvSpPr>
          <p:spPr>
            <a:xfrm>
              <a:off x="609480" y="3429000"/>
              <a:ext cx="120636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. y = 8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1" name=""/>
            <p:cNvGraphicFramePr/>
            <p:nvPr/>
          </p:nvGraphicFramePr>
          <p:xfrm>
            <a:off x="6172200" y="3276720"/>
            <a:ext cx="2743200" cy="2800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72200" y="3276720"/>
                      <a:ext cx="2743200" cy="280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13" name=""/>
          <p:cNvGraphicFramePr/>
          <p:nvPr/>
        </p:nvGraphicFramePr>
        <p:xfrm>
          <a:off x="1015920" y="4084560"/>
          <a:ext cx="2184480" cy="531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15920" y="4084560"/>
                    <a:ext cx="218448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870120" y="4648320"/>
          <a:ext cx="3771720" cy="850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70120" y="4648320"/>
                    <a:ext cx="377172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380880" y="304920"/>
            <a:ext cx="8334360" cy="2895480"/>
            <a:chOff x="380880" y="304920"/>
            <a:chExt cx="8334360" cy="2895480"/>
          </a:xfrm>
        </p:grpSpPr>
        <p:graphicFrame>
          <p:nvGraphicFramePr>
            <p:cNvPr id="218" name=""/>
            <p:cNvGraphicFramePr/>
            <p:nvPr/>
          </p:nvGraphicFramePr>
          <p:xfrm>
            <a:off x="6019920" y="304920"/>
            <a:ext cx="2695320" cy="2895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19920" y="304920"/>
                      <a:ext cx="2695320" cy="28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0" name=""/>
            <p:cNvSpPr/>
            <p:nvPr/>
          </p:nvSpPr>
          <p:spPr>
            <a:xfrm>
              <a:off x="380880" y="304920"/>
              <a:ext cx="179928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. Line x =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21" name=""/>
          <p:cNvGraphicFramePr/>
          <p:nvPr/>
        </p:nvGraphicFramePr>
        <p:xfrm>
          <a:off x="838080" y="990720"/>
          <a:ext cx="1587600" cy="77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990720"/>
                    <a:ext cx="158760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838080" y="2057400"/>
          <a:ext cx="2629080" cy="85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2057400"/>
                    <a:ext cx="2629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5943600" y="1066680"/>
          <a:ext cx="2771640" cy="28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1066680"/>
                    <a:ext cx="2771640" cy="28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380880" y="228600"/>
            <a:ext cx="87631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.  Find the volume of the solid generated by revolving the region bounded by the graphs of the equations about the line y =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990720" y="1219320"/>
          <a:ext cx="1726920" cy="3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219320"/>
                    <a:ext cx="172692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990720" y="1752480"/>
          <a:ext cx="1485720" cy="5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1752480"/>
                    <a:ext cx="148572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990720" y="2438280"/>
          <a:ext cx="2958840" cy="85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2438280"/>
                    <a:ext cx="295884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58840" y="228600"/>
            <a:ext cx="9006120" cy="1788120"/>
            <a:chOff x="258840" y="228600"/>
            <a:chExt cx="9006120" cy="1788120"/>
          </a:xfrm>
        </p:grpSpPr>
        <p:sp>
          <p:nvSpPr>
            <p:cNvPr id="45" name=""/>
            <p:cNvSpPr/>
            <p:nvPr/>
          </p:nvSpPr>
          <p:spPr>
            <a:xfrm>
              <a:off x="457200" y="228600"/>
              <a:ext cx="8686800" cy="12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disc/washer method requires you to visualize a series of discs or washers, compute their volume and add the volumes of all possible discs/wash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58840" y="1523880"/>
              <a:ext cx="900612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cross sections of a typical disc/washer would be as shown below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7" name=""/>
          <p:cNvGraphicFramePr/>
          <p:nvPr/>
        </p:nvGraphicFramePr>
        <p:xfrm>
          <a:off x="4800600" y="2362320"/>
          <a:ext cx="4143240" cy="34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362320"/>
                    <a:ext cx="4143240" cy="34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228600" y="2362320"/>
          <a:ext cx="4686480" cy="349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362320"/>
                    <a:ext cx="468648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380880" y="228600"/>
            <a:ext cx="8763120" cy="3772080"/>
            <a:chOff x="380880" y="228600"/>
            <a:chExt cx="8763120" cy="3772080"/>
          </a:xfrm>
        </p:grpSpPr>
        <p:graphicFrame>
          <p:nvGraphicFramePr>
            <p:cNvPr id="235" name=""/>
            <p:cNvGraphicFramePr/>
            <p:nvPr/>
          </p:nvGraphicFramePr>
          <p:xfrm>
            <a:off x="5867280" y="1219320"/>
            <a:ext cx="2914920" cy="2781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67280" y="1219320"/>
                      <a:ext cx="2914920" cy="278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7" name=""/>
            <p:cNvSpPr/>
            <p:nvPr/>
          </p:nvSpPr>
          <p:spPr>
            <a:xfrm>
              <a:off x="380880" y="228600"/>
              <a:ext cx="87631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0.  Find the volume of the solid generated by revolving the region bounded by the graphs of the equations about the line x = 6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8" name=""/>
            <p:cNvGraphicFramePr/>
            <p:nvPr/>
          </p:nvGraphicFramePr>
          <p:xfrm>
            <a:off x="1066680" y="1143000"/>
            <a:ext cx="3340080" cy="304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66680" y="1143000"/>
                      <a:ext cx="334008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40" name=""/>
          <p:cNvGraphicFramePr/>
          <p:nvPr/>
        </p:nvGraphicFramePr>
        <p:xfrm>
          <a:off x="1066680" y="1600200"/>
          <a:ext cx="825480" cy="30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1600200"/>
                    <a:ext cx="8254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1066680" y="2133720"/>
          <a:ext cx="3632400" cy="39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2133720"/>
                    <a:ext cx="363240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1009800" y="2590920"/>
          <a:ext cx="3035160" cy="850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9800" y="2590920"/>
                    <a:ext cx="303516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990720" y="1828800"/>
          <a:ext cx="322560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28800"/>
                    <a:ext cx="32256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990720" y="2552760"/>
          <a:ext cx="3225600" cy="85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2552760"/>
                    <a:ext cx="322560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0" name=""/>
          <p:cNvGrpSpPr/>
          <p:nvPr/>
        </p:nvGrpSpPr>
        <p:grpSpPr>
          <a:xfrm>
            <a:off x="380880" y="304920"/>
            <a:ext cx="8763120" cy="4281480"/>
            <a:chOff x="380880" y="304920"/>
            <a:chExt cx="8763120" cy="4281480"/>
          </a:xfrm>
        </p:grpSpPr>
        <p:sp>
          <p:nvSpPr>
            <p:cNvPr id="251" name=""/>
            <p:cNvSpPr/>
            <p:nvPr/>
          </p:nvSpPr>
          <p:spPr>
            <a:xfrm>
              <a:off x="380880" y="304920"/>
              <a:ext cx="87631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571680" indent="-571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4.  Find the volume of the solid generated by revolving the region bounded by the graphs about the x-axi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2" name=""/>
            <p:cNvGraphicFramePr/>
            <p:nvPr/>
          </p:nvGraphicFramePr>
          <p:xfrm>
            <a:off x="990720" y="1219320"/>
            <a:ext cx="1968480" cy="404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90720" y="1219320"/>
                      <a:ext cx="1968480" cy="40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4" name=""/>
            <p:cNvGraphicFramePr/>
            <p:nvPr/>
          </p:nvGraphicFramePr>
          <p:xfrm>
            <a:off x="5181480" y="1219320"/>
            <a:ext cx="3391200" cy="33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5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181480" y="1219320"/>
                      <a:ext cx="3391200" cy="33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80880" y="228600"/>
            <a:ext cx="8763120" cy="4191120"/>
            <a:chOff x="380880" y="228600"/>
            <a:chExt cx="8763120" cy="4191120"/>
          </a:xfrm>
        </p:grpSpPr>
        <p:sp>
          <p:nvSpPr>
            <p:cNvPr id="257" name=""/>
            <p:cNvSpPr/>
            <p:nvPr/>
          </p:nvSpPr>
          <p:spPr>
            <a:xfrm>
              <a:off x="380880" y="228600"/>
              <a:ext cx="87631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8.  Find the volume of the solid generated by revolving the region bounded by the graphs about the x-axi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8" name=""/>
            <p:cNvGraphicFramePr/>
            <p:nvPr/>
          </p:nvGraphicFramePr>
          <p:xfrm>
            <a:off x="1066680" y="1143000"/>
            <a:ext cx="2971800" cy="469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1143000"/>
                      <a:ext cx="297180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0" name=""/>
            <p:cNvGraphicFramePr/>
            <p:nvPr/>
          </p:nvGraphicFramePr>
          <p:xfrm>
            <a:off x="5532480" y="1066680"/>
            <a:ext cx="3249720" cy="3353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32480" y="1066680"/>
                      <a:ext cx="3249720" cy="335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62" name=""/>
          <p:cNvGraphicFramePr/>
          <p:nvPr/>
        </p:nvGraphicFramePr>
        <p:xfrm>
          <a:off x="1066680" y="1752480"/>
          <a:ext cx="1257480" cy="74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1752480"/>
                    <a:ext cx="125748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1066680" y="2590920"/>
          <a:ext cx="2832120" cy="850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2590920"/>
                    <a:ext cx="283212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380880" y="228600"/>
            <a:ext cx="8763120" cy="3112920"/>
            <a:chOff x="380880" y="228600"/>
            <a:chExt cx="8763120" cy="3112920"/>
          </a:xfrm>
        </p:grpSpPr>
        <p:sp>
          <p:nvSpPr>
            <p:cNvPr id="267" name=""/>
            <p:cNvSpPr/>
            <p:nvPr/>
          </p:nvSpPr>
          <p:spPr>
            <a:xfrm>
              <a:off x="380880" y="228600"/>
              <a:ext cx="8763120" cy="12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1.  If the proportion of the line y = .5x lying n the first quadrant is revolved about the x-axis, a cone is generated.  Find the volume of the cone extending from x =0 to x = 6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8" name="" descr=""/>
            <p:cNvPicPr/>
            <p:nvPr/>
          </p:nvPicPr>
          <p:blipFill>
            <a:blip r:embed="rId1"/>
            <a:stretch/>
          </p:blipFill>
          <p:spPr>
            <a:xfrm>
              <a:off x="5943600" y="1371600"/>
              <a:ext cx="2895480" cy="19699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69" name=""/>
          <p:cNvGraphicFramePr/>
          <p:nvPr/>
        </p:nvGraphicFramePr>
        <p:xfrm>
          <a:off x="1066680" y="1676520"/>
          <a:ext cx="185436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676520"/>
                    <a:ext cx="185436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1066680" y="2438280"/>
          <a:ext cx="1955880" cy="851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66680" y="2438280"/>
                    <a:ext cx="19558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3" name=""/>
          <p:cNvGrpSpPr/>
          <p:nvPr/>
        </p:nvGrpSpPr>
        <p:grpSpPr>
          <a:xfrm>
            <a:off x="223560" y="3352680"/>
            <a:ext cx="8615520" cy="2374920"/>
            <a:chOff x="223560" y="3352680"/>
            <a:chExt cx="8615520" cy="2374920"/>
          </a:xfrm>
        </p:grpSpPr>
        <p:graphicFrame>
          <p:nvGraphicFramePr>
            <p:cNvPr id="274" name=""/>
            <p:cNvGraphicFramePr/>
            <p:nvPr/>
          </p:nvGraphicFramePr>
          <p:xfrm>
            <a:off x="838080" y="3809880"/>
            <a:ext cx="507960" cy="5590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7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38080" y="3809880"/>
                      <a:ext cx="507960" cy="55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6" name=""/>
            <p:cNvSpPr/>
            <p:nvPr/>
          </p:nvSpPr>
          <p:spPr>
            <a:xfrm>
              <a:off x="223560" y="3352680"/>
              <a:ext cx="842580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3.  Use the disc method to verify that the volume of a sphere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7" name="" descr=""/>
            <p:cNvPicPr/>
            <p:nvPr/>
          </p:nvPicPr>
          <p:blipFill>
            <a:blip r:embed="rId8"/>
            <a:stretch/>
          </p:blipFill>
          <p:spPr>
            <a:xfrm>
              <a:off x="6019920" y="3809880"/>
              <a:ext cx="2819160" cy="1917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78" name=""/>
          <p:cNvGraphicFramePr/>
          <p:nvPr/>
        </p:nvGraphicFramePr>
        <p:xfrm>
          <a:off x="914400" y="4419720"/>
          <a:ext cx="2997360" cy="620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4400" y="4419720"/>
                    <a:ext cx="299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914400" y="4952880"/>
          <a:ext cx="3594240" cy="851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14400" y="4952880"/>
                    <a:ext cx="359424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1143000" y="5791320"/>
          <a:ext cx="5181480" cy="749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43000" y="5791320"/>
                    <a:ext cx="518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380880" y="228600"/>
            <a:ext cx="8763120" cy="3630600"/>
            <a:chOff x="380880" y="228600"/>
            <a:chExt cx="8763120" cy="3630600"/>
          </a:xfrm>
        </p:grpSpPr>
        <p:pic>
          <p:nvPicPr>
            <p:cNvPr id="285" name="" descr=""/>
            <p:cNvPicPr/>
            <p:nvPr/>
          </p:nvPicPr>
          <p:blipFill>
            <a:blip r:embed="rId1"/>
            <a:stretch/>
          </p:blipFill>
          <p:spPr>
            <a:xfrm>
              <a:off x="5029200" y="1371600"/>
              <a:ext cx="3657600" cy="24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7695720" y="3200400"/>
              <a:ext cx="26316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637960" y="3200400"/>
              <a:ext cx="36504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09560" y="1295280"/>
              <a:ext cx="36504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0880" y="228600"/>
              <a:ext cx="8763120" cy="12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571680" indent="-571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5.  A cone with base of radius r and height H is cut by a plane parallel to and h units above the base.  Find the volume of the solid below the plane (the frustum of the cone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15000" y="2209680"/>
              <a:ext cx="29664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53080" y="2819520"/>
              <a:ext cx="27972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18840" y="1752480"/>
              <a:ext cx="61956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-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34320" y="2209680"/>
              <a:ext cx="27972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4" name=""/>
          <p:cNvGraphicFramePr/>
          <p:nvPr/>
        </p:nvGraphicFramePr>
        <p:xfrm>
          <a:off x="1066680" y="1523880"/>
          <a:ext cx="901800" cy="54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523880"/>
                    <a:ext cx="90180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2362320" y="1523880"/>
          <a:ext cx="990360" cy="544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62320" y="1523880"/>
                    <a:ext cx="99036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990720" y="2362320"/>
          <a:ext cx="1562040" cy="671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90720" y="2362320"/>
                    <a:ext cx="15620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990720" y="3048120"/>
          <a:ext cx="1917720" cy="850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90720" y="3048120"/>
                    <a:ext cx="191772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1219320" y="4038480"/>
          <a:ext cx="2971800" cy="851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19320" y="4038480"/>
                    <a:ext cx="297180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4267080" y="4038480"/>
          <a:ext cx="2857680" cy="8510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267080" y="4038480"/>
                    <a:ext cx="28576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1219320" y="4952880"/>
          <a:ext cx="4686120" cy="762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219320" y="4952880"/>
                    <a:ext cx="4686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"/>
          <p:cNvGraphicFramePr/>
          <p:nvPr/>
        </p:nvGraphicFramePr>
        <p:xfrm>
          <a:off x="952560" y="2133720"/>
          <a:ext cx="38736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2133720"/>
                    <a:ext cx="38736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1219320" y="2971800"/>
          <a:ext cx="151128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2971800"/>
                    <a:ext cx="15112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990720" y="3657600"/>
          <a:ext cx="2895480" cy="85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3657600"/>
                    <a:ext cx="28954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4" name=""/>
          <p:cNvGrpSpPr/>
          <p:nvPr/>
        </p:nvGrpSpPr>
        <p:grpSpPr>
          <a:xfrm>
            <a:off x="380880" y="228600"/>
            <a:ext cx="8763120" cy="3757680"/>
            <a:chOff x="380880" y="228600"/>
            <a:chExt cx="8763120" cy="3757680"/>
          </a:xfrm>
        </p:grpSpPr>
        <p:sp>
          <p:nvSpPr>
            <p:cNvPr id="315" name=""/>
            <p:cNvSpPr/>
            <p:nvPr/>
          </p:nvSpPr>
          <p:spPr>
            <a:xfrm>
              <a:off x="380880" y="228600"/>
              <a:ext cx="8763120" cy="159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7.  A tank on the wing of a jet aircraft is formed by revolving the region bounded by the graph of f(x) and the x-axis around the x-axis, where x and y are measured in meters.  Find the tanks volum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6" name="" descr=""/>
            <p:cNvPicPr/>
            <p:nvPr/>
          </p:nvPicPr>
          <p:blipFill>
            <a:blip r:embed="rId7"/>
            <a:stretch/>
          </p:blipFill>
          <p:spPr>
            <a:xfrm>
              <a:off x="5181480" y="1447920"/>
              <a:ext cx="3733920" cy="2538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317" name=""/>
            <p:cNvGraphicFramePr/>
            <p:nvPr/>
          </p:nvGraphicFramePr>
          <p:xfrm>
            <a:off x="2603520" y="1447920"/>
            <a:ext cx="1650960" cy="5587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1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603520" y="1447920"/>
                      <a:ext cx="1650960" cy="55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380880" y="0"/>
            <a:ext cx="8763120" cy="3492360"/>
            <a:chOff x="380880" y="0"/>
            <a:chExt cx="8763120" cy="3492360"/>
          </a:xfrm>
        </p:grpSpPr>
        <p:grpSp>
          <p:nvGrpSpPr>
            <p:cNvPr id="320" name=""/>
            <p:cNvGrpSpPr/>
            <p:nvPr/>
          </p:nvGrpSpPr>
          <p:grpSpPr>
            <a:xfrm>
              <a:off x="380880" y="0"/>
              <a:ext cx="8763120" cy="2030400"/>
              <a:chOff x="380880" y="0"/>
              <a:chExt cx="8763120" cy="2030400"/>
            </a:xfrm>
          </p:grpSpPr>
          <p:sp>
            <p:nvSpPr>
              <p:cNvPr id="321" name=""/>
              <p:cNvSpPr/>
              <p:nvPr/>
            </p:nvSpPr>
            <p:spPr>
              <a:xfrm>
                <a:off x="380880" y="0"/>
                <a:ext cx="8763120" cy="159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360" rIns="63360" tIns="63360" bIns="63360" anchor="t">
                <a:spAutoFit/>
              </a:bodyPr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9.  Find the volume of the solid generated if the upper half of the following ellipse is revolved about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.  The x-axis to form a prolate spheroid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.  The y-axis to form an oblate spheroi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322" name=""/>
              <p:cNvGraphicFramePr/>
              <p:nvPr/>
            </p:nvGraphicFramePr>
            <p:xfrm>
              <a:off x="1447920" y="1676520"/>
              <a:ext cx="2336760" cy="3538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23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447920" y="1676520"/>
                        <a:ext cx="2336760" cy="35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pic>
          <p:nvPicPr>
            <p:cNvPr id="324" name="" descr=""/>
            <p:cNvPicPr/>
            <p:nvPr/>
          </p:nvPicPr>
          <p:blipFill>
            <a:blip r:embed="rId3"/>
            <a:stretch/>
          </p:blipFill>
          <p:spPr>
            <a:xfrm>
              <a:off x="5867280" y="1523880"/>
              <a:ext cx="2895840" cy="19684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325" name=""/>
          <p:cNvGraphicFramePr/>
          <p:nvPr/>
        </p:nvGraphicFramePr>
        <p:xfrm>
          <a:off x="1397160" y="2706840"/>
          <a:ext cx="1993680" cy="671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97160" y="2706840"/>
                    <a:ext cx="199368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1339920" y="3352680"/>
          <a:ext cx="5410080" cy="851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39920" y="3352680"/>
                    <a:ext cx="5410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9" name=""/>
          <p:cNvGrpSpPr/>
          <p:nvPr/>
        </p:nvGrpSpPr>
        <p:grpSpPr>
          <a:xfrm>
            <a:off x="838080" y="2133720"/>
            <a:ext cx="2349720" cy="558720"/>
            <a:chOff x="838080" y="2133720"/>
            <a:chExt cx="2349720" cy="558720"/>
          </a:xfrm>
        </p:grpSpPr>
        <p:graphicFrame>
          <p:nvGraphicFramePr>
            <p:cNvPr id="330" name=""/>
            <p:cNvGraphicFramePr/>
            <p:nvPr/>
          </p:nvGraphicFramePr>
          <p:xfrm>
            <a:off x="1447920" y="2133720"/>
            <a:ext cx="1739880" cy="5587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447920" y="2133720"/>
                      <a:ext cx="1739880" cy="55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2" name=""/>
            <p:cNvSpPr/>
            <p:nvPr/>
          </p:nvSpPr>
          <p:spPr>
            <a:xfrm>
              <a:off x="838080" y="2133720"/>
              <a:ext cx="35604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838080" y="4267080"/>
            <a:ext cx="8001000" cy="2222640"/>
            <a:chOff x="838080" y="4267080"/>
            <a:chExt cx="8001000" cy="2222640"/>
          </a:xfrm>
        </p:grpSpPr>
        <p:pic>
          <p:nvPicPr>
            <p:cNvPr id="334" name="" descr=""/>
            <p:cNvPicPr/>
            <p:nvPr/>
          </p:nvPicPr>
          <p:blipFill>
            <a:blip r:embed="rId10"/>
            <a:stretch/>
          </p:blipFill>
          <p:spPr>
            <a:xfrm>
              <a:off x="6019920" y="4572000"/>
              <a:ext cx="2819160" cy="191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5" name=""/>
            <p:cNvGrpSpPr/>
            <p:nvPr/>
          </p:nvGrpSpPr>
          <p:grpSpPr>
            <a:xfrm>
              <a:off x="838080" y="4267080"/>
              <a:ext cx="2286000" cy="635040"/>
              <a:chOff x="838080" y="4267080"/>
              <a:chExt cx="2286000" cy="635040"/>
            </a:xfrm>
          </p:grpSpPr>
          <p:sp>
            <p:nvSpPr>
              <p:cNvPr id="336" name=""/>
              <p:cNvSpPr/>
              <p:nvPr/>
            </p:nvSpPr>
            <p:spPr>
              <a:xfrm>
                <a:off x="838080" y="4267080"/>
                <a:ext cx="372960" cy="4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3360" rIns="63360" tIns="63360" bIns="6336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337" name=""/>
              <p:cNvGraphicFramePr/>
              <p:nvPr/>
            </p:nvGraphicFramePr>
            <p:xfrm>
              <a:off x="1511280" y="4343400"/>
              <a:ext cx="1612800" cy="55872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338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1511280" y="4343400"/>
                        <a:ext cx="1612800" cy="558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339" name=""/>
          <p:cNvGraphicFramePr/>
          <p:nvPr/>
        </p:nvGraphicFramePr>
        <p:xfrm>
          <a:off x="1523880" y="4800600"/>
          <a:ext cx="1866960" cy="671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23880" y="4800600"/>
                    <a:ext cx="186696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1600200" y="5486400"/>
          <a:ext cx="2946240" cy="851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00200" y="5486400"/>
                    <a:ext cx="294624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752480" y="1143000"/>
          <a:ext cx="5578560" cy="54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143000"/>
                    <a:ext cx="557856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2282040" y="304920"/>
            <a:ext cx="45608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tation of a vertical disc/was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685800" y="1085760"/>
          <a:ext cx="7696080" cy="577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85760"/>
                    <a:ext cx="7696080" cy="57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1597680" y="228600"/>
            <a:ext cx="483948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tation of a horizontal disc/wa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304920" y="0"/>
            <a:ext cx="8458200" cy="3338640"/>
            <a:chOff x="304920" y="0"/>
            <a:chExt cx="8458200" cy="3338640"/>
          </a:xfrm>
        </p:grpSpPr>
        <p:graphicFrame>
          <p:nvGraphicFramePr>
            <p:cNvPr id="58" name=""/>
            <p:cNvGraphicFramePr/>
            <p:nvPr/>
          </p:nvGraphicFramePr>
          <p:xfrm>
            <a:off x="5791320" y="0"/>
            <a:ext cx="2971800" cy="3338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91320" y="0"/>
                      <a:ext cx="2971800" cy="333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0" name=""/>
            <p:cNvSpPr/>
            <p:nvPr/>
          </p:nvSpPr>
          <p:spPr>
            <a:xfrm>
              <a:off x="304920" y="228600"/>
              <a:ext cx="533376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gure is a cylinder with height, dx, and radius, f(x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1" name=""/>
          <p:cNvGraphicFramePr/>
          <p:nvPr/>
        </p:nvGraphicFramePr>
        <p:xfrm>
          <a:off x="1085760" y="1295280"/>
          <a:ext cx="2108160" cy="35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5760" y="1295280"/>
                    <a:ext cx="210816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854360" y="4481640"/>
          <a:ext cx="1625400" cy="36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54360" y="4481640"/>
                    <a:ext cx="162540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5" name=""/>
          <p:cNvGrpSpPr/>
          <p:nvPr/>
        </p:nvGrpSpPr>
        <p:grpSpPr>
          <a:xfrm>
            <a:off x="228600" y="3276720"/>
            <a:ext cx="8534520" cy="3581280"/>
            <a:chOff x="228600" y="3276720"/>
            <a:chExt cx="8534520" cy="3581280"/>
          </a:xfrm>
        </p:grpSpPr>
        <p:graphicFrame>
          <p:nvGraphicFramePr>
            <p:cNvPr id="66" name=""/>
            <p:cNvGraphicFramePr/>
            <p:nvPr/>
          </p:nvGraphicFramePr>
          <p:xfrm>
            <a:off x="5791320" y="3276720"/>
            <a:ext cx="2971800" cy="3581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91320" y="3276720"/>
                      <a:ext cx="2971800" cy="358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" name=""/>
            <p:cNvSpPr/>
            <p:nvPr/>
          </p:nvSpPr>
          <p:spPr>
            <a:xfrm>
              <a:off x="228600" y="3429000"/>
              <a:ext cx="548640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gure is a washer and its volume is the difference between two cylind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9" name=""/>
          <p:cNvGraphicFramePr/>
          <p:nvPr/>
        </p:nvGraphicFramePr>
        <p:xfrm>
          <a:off x="2057400" y="5105520"/>
          <a:ext cx="2793960" cy="392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7400" y="5105520"/>
                    <a:ext cx="2793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2057400" y="5715000"/>
          <a:ext cx="2476440" cy="493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7400" y="5715000"/>
                    <a:ext cx="247644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228600" y="228600"/>
            <a:ext cx="8534520" cy="3171960"/>
            <a:chOff x="228600" y="228600"/>
            <a:chExt cx="8534520" cy="3171960"/>
          </a:xfrm>
        </p:grpSpPr>
        <p:graphicFrame>
          <p:nvGraphicFramePr>
            <p:cNvPr id="74" name=""/>
            <p:cNvGraphicFramePr/>
            <p:nvPr/>
          </p:nvGraphicFramePr>
          <p:xfrm>
            <a:off x="5775480" y="228600"/>
            <a:ext cx="2987640" cy="3171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75480" y="228600"/>
                      <a:ext cx="2987640" cy="317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" name=""/>
            <p:cNvSpPr/>
            <p:nvPr/>
          </p:nvSpPr>
          <p:spPr>
            <a:xfrm>
              <a:off x="228600" y="304920"/>
              <a:ext cx="541008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gure is a cylinder with height dy and radius, f(y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7" name=""/>
          <p:cNvGraphicFramePr/>
          <p:nvPr/>
        </p:nvGraphicFramePr>
        <p:xfrm>
          <a:off x="1149480" y="1295280"/>
          <a:ext cx="1981080" cy="35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9480" y="1295280"/>
                    <a:ext cx="198108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" name=""/>
          <p:cNvGrpSpPr/>
          <p:nvPr/>
        </p:nvGrpSpPr>
        <p:grpSpPr>
          <a:xfrm>
            <a:off x="228600" y="3429000"/>
            <a:ext cx="8564400" cy="3200400"/>
            <a:chOff x="228600" y="3429000"/>
            <a:chExt cx="8564400" cy="3200400"/>
          </a:xfrm>
        </p:grpSpPr>
        <p:graphicFrame>
          <p:nvGraphicFramePr>
            <p:cNvPr id="80" name=""/>
            <p:cNvGraphicFramePr/>
            <p:nvPr/>
          </p:nvGraphicFramePr>
          <p:xfrm>
            <a:off x="5791320" y="3429000"/>
            <a:ext cx="3001680" cy="3200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91320" y="3429000"/>
                      <a:ext cx="3001680" cy="32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" name=""/>
            <p:cNvSpPr/>
            <p:nvPr/>
          </p:nvSpPr>
          <p:spPr>
            <a:xfrm>
              <a:off x="228600" y="3429000"/>
              <a:ext cx="548640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gure is a washer and its volume is the difference between two cylind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3" name=""/>
          <p:cNvGraphicFramePr/>
          <p:nvPr/>
        </p:nvGraphicFramePr>
        <p:xfrm>
          <a:off x="1854360" y="4481640"/>
          <a:ext cx="1625400" cy="36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54360" y="4481640"/>
                    <a:ext cx="162540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2070000" y="5105520"/>
          <a:ext cx="2768760" cy="392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70000" y="5105520"/>
                    <a:ext cx="27687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2070000" y="5715000"/>
          <a:ext cx="2451240" cy="493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70000" y="5715000"/>
                    <a:ext cx="245124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228600" y="228600"/>
            <a:ext cx="8915400" cy="3381480"/>
            <a:chOff x="228600" y="228600"/>
            <a:chExt cx="8915400" cy="3381480"/>
          </a:xfrm>
        </p:grpSpPr>
        <p:graphicFrame>
          <p:nvGraphicFramePr>
            <p:cNvPr id="90" name=""/>
            <p:cNvGraphicFramePr/>
            <p:nvPr/>
          </p:nvGraphicFramePr>
          <p:xfrm>
            <a:off x="5334120" y="1143000"/>
            <a:ext cx="3468600" cy="2467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4120" y="1143000"/>
                      <a:ext cx="34686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>
              <a:off x="228600" y="228600"/>
              <a:ext cx="891540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628560" indent="-6285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:  Find the volume of the solid formed by revolving the region bounded by f(x) from 0 to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around the x axi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3" name=""/>
            <p:cNvGraphicFramePr/>
            <p:nvPr/>
          </p:nvGraphicFramePr>
          <p:xfrm>
            <a:off x="457200" y="1219320"/>
            <a:ext cx="2171880" cy="330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" y="1219320"/>
                      <a:ext cx="217188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95" name=""/>
          <p:cNvGraphicFramePr/>
          <p:nvPr/>
        </p:nvGraphicFramePr>
        <p:xfrm>
          <a:off x="457200" y="1752480"/>
          <a:ext cx="3441600" cy="493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1752480"/>
                    <a:ext cx="344160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457200" y="2514600"/>
          <a:ext cx="3594240" cy="85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2514600"/>
                    <a:ext cx="359424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228600" y="228600"/>
            <a:ext cx="8915400" cy="3575160"/>
            <a:chOff x="228600" y="228600"/>
            <a:chExt cx="8915400" cy="3575160"/>
          </a:xfrm>
        </p:grpSpPr>
        <p:graphicFrame>
          <p:nvGraphicFramePr>
            <p:cNvPr id="100" name=""/>
            <p:cNvGraphicFramePr/>
            <p:nvPr/>
          </p:nvGraphicFramePr>
          <p:xfrm>
            <a:off x="5334120" y="1066680"/>
            <a:ext cx="3423960" cy="2737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4120" y="1066680"/>
                      <a:ext cx="3423960" cy="273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"/>
            <p:cNvSpPr/>
            <p:nvPr/>
          </p:nvSpPr>
          <p:spPr>
            <a:xfrm>
              <a:off x="228600" y="228600"/>
              <a:ext cx="891540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628560" indent="-6285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:  Find the volume of the solid formed by revolving the region bounded by f(x) and y = 1 around y = 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3" name=""/>
            <p:cNvGraphicFramePr/>
            <p:nvPr/>
          </p:nvGraphicFramePr>
          <p:xfrm>
            <a:off x="533520" y="1295280"/>
            <a:ext cx="1155600" cy="354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520" y="1295280"/>
                      <a:ext cx="11556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5" name=""/>
          <p:cNvSpPr/>
          <p:nvPr/>
        </p:nvSpPr>
        <p:spPr>
          <a:xfrm>
            <a:off x="454680" y="1828800"/>
            <a:ext cx="420552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sections at (-1,1) and (1,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25520" y="2484360"/>
          <a:ext cx="3911400" cy="53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5520" y="2484360"/>
                    <a:ext cx="391140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57200" y="3124080"/>
          <a:ext cx="4381560" cy="85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124080"/>
                    <a:ext cx="438156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2514600" y="4038480"/>
          <a:ext cx="2527200" cy="74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14600" y="4038480"/>
                    <a:ext cx="252720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228600" y="228600"/>
            <a:ext cx="8915400" cy="3697200"/>
            <a:chOff x="228600" y="228600"/>
            <a:chExt cx="8915400" cy="3697200"/>
          </a:xfrm>
        </p:grpSpPr>
        <p:graphicFrame>
          <p:nvGraphicFramePr>
            <p:cNvPr id="113" name=""/>
            <p:cNvGraphicFramePr/>
            <p:nvPr/>
          </p:nvGraphicFramePr>
          <p:xfrm>
            <a:off x="5342040" y="1066680"/>
            <a:ext cx="3801960" cy="2859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42040" y="1066680"/>
                      <a:ext cx="3801960" cy="285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5" name=""/>
            <p:cNvSpPr/>
            <p:nvPr/>
          </p:nvSpPr>
          <p:spPr>
            <a:xfrm>
              <a:off x="228600" y="228600"/>
              <a:ext cx="891540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628560" indent="-6285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:  Find the volume of the solid formed by revolving the region bounded by f(x) and g(x) around the x axi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6" name=""/>
            <p:cNvGraphicFramePr/>
            <p:nvPr/>
          </p:nvGraphicFramePr>
          <p:xfrm>
            <a:off x="933480" y="1143000"/>
            <a:ext cx="990720" cy="749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33480" y="1143000"/>
                      <a:ext cx="990720" cy="74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8" name=""/>
            <p:cNvGraphicFramePr/>
            <p:nvPr/>
          </p:nvGraphicFramePr>
          <p:xfrm>
            <a:off x="2362320" y="1143000"/>
            <a:ext cx="876240" cy="749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362320" y="1143000"/>
                      <a:ext cx="876240" cy="74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20" name=""/>
          <p:cNvGraphicFramePr/>
          <p:nvPr/>
        </p:nvGraphicFramePr>
        <p:xfrm>
          <a:off x="914400" y="1981080"/>
          <a:ext cx="4038480" cy="53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1981080"/>
                    <a:ext cx="403848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914400" y="2819520"/>
          <a:ext cx="2565360" cy="850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4400" y="2819520"/>
                    <a:ext cx="256536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143000" y="3886200"/>
          <a:ext cx="1816200" cy="851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43000" y="3886200"/>
                    <a:ext cx="181620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143000" y="4876920"/>
          <a:ext cx="2057400" cy="838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43000" y="4876920"/>
                    <a:ext cx="20574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5T14:35:38Z</dcterms:created>
  <dc:creator>Brookstone School</dc:creator>
  <dc:description/>
  <dc:language>en-US</dc:language>
  <cp:lastModifiedBy>Brookstone School</cp:lastModifiedBy>
  <dcterms:modified xsi:type="dcterms:W3CDTF">2002-05-12T12:41:23Z</dcterms:modified>
  <cp:revision>26</cp:revision>
  <dc:subject/>
  <dc:title>No Slide Title</dc:title>
</cp:coreProperties>
</file>